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A119-1FD1-47E7-9238-2B647F0591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agregas tu mail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4E5E-B5C6-4DEF-BF16-311587DA0B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gregué 3º f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06B5-0192-418F-BE36-93831AE2EB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s detallando fechas, agregué la de instalación de CONENFOR.  Duda: diapo 8 – donde también figura conen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C6FF-6120-4B3A-BA68-12F6BE6AD1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gregué el número de 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6675-79C3-4ADD-A4CC-9928386722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34C-58C0-4551-81D4-14705D74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123-379A-408A-96B8-E98CF6BB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18A-EF23-46A6-BB7D-B226881A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B96-CAD6-4989-AB85-14364F38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149-0CA0-4314-A62C-EB449C5E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A34-524D-4B05-966F-1880173F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CFC-B9D2-443F-920D-90995FE7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CAA-3E62-4907-BD79-79311136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728-FDEA-4608-AAFA-C9E2A43D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F8B-7C21-4315-BBCA-361A6BF0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FEF-E58E-4D06-A496-6D8694A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756-CD8E-4A92-9C45-85E48B3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34E4-91F9-41D5-843D-F40EE4D34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15600" y="2585880"/>
            <a:ext cx="87850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“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gobernanza, entre la política y la participación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experiencia uruguaya (2005 – 2011)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- La polí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- La particip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.- La gobernanz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De acuerdo al Documento Marco de la Reunión, se seleccionaron estos tres aspectos, pero no significa restar importancia a los otros dos: Financiación y Calida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Jorge Cam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C - Urugua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n 1" descr="cid:9B3282EB-B006-41A0-A023-484662A72073"/>
          <p:cNvPicPr/>
          <p:nvPr/>
        </p:nvPicPr>
        <p:blipFill>
          <a:blip r:embed="rId1"/>
          <a:stretch/>
        </p:blipFill>
        <p:spPr>
          <a:xfrm>
            <a:off x="542880" y="209520"/>
            <a:ext cx="928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1760" y="641520"/>
            <a:ext cx="8636040" cy="61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in crédito ni reconocimiento (aú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demanda de acreditación del aprendizaje no formal e informal ha aumentado significativamente entre la población adulta interesada en continuar su educación o buscar el reconocimiento de sus competencias para el empleo y proseguir su aprendizaj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Validación de conocimientos para habilitar la continuidad educativa (art. 39 – Ley 18.437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 reconocimiento a los “conocimientos, habilidades y alcanzados por una persona fuera de la educación formal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¿estamos ante una contradicción conceptual? ¿dónde está el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valor educativo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1760" y="569520"/>
            <a:ext cx="8636040" cy="62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2.- La participación: un medio y un f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participación es un principio fundamental de la educación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s metodologías que se apliquen deben favorecer la formación ciudadana y la autonomía de las personas (art. 9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l educando es y debe ser el sujeto de la educación (art. 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política educativa nacional tendrá como objetivo fundamental, que todos los habitantes del país logren aprendizajes de calidad, a lo largo de toda la vida y en todo el país (art. 12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rechos y deberes de los educandos y de la familia (art. 72 a 7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sejos de Participación en todo centro educativo público, integrado por estudiantes, educadores, familia y comunidad  (art. 76), con cometidos específicos y recursos (art. 77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1760" y="641520"/>
            <a:ext cx="8636040" cy="61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incipales ac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ograma Uruguay Estu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ducación y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309600"/>
            <a:ext cx="8636040" cy="64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ograma Uruguay Estud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mienza en el año 200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terinstitucional: MEC – ANEP – Universidad – MTSS – MEF – OPP – BROU – C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bjetivos: Promover el aprendizaje a lo largo de toda la vida, estimular el estudio y culminación de los niveles educativos, facilitar la integración soci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mponent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e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asantí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édi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venio MEC – ANEP – INEF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venio MEC - BRO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1760" y="785520"/>
            <a:ext cx="863604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ducación y Trabaj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a través del trabajo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s una de las 9 líneas transversales que debe contemplar el Sistema Nacional de Educación en cualquiera de sus modalidades (Ley 18.437 -    art. 40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inclusión explícita de la educación es un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novación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 las políticas de empleo; se resignifica la formación profesiona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CAP: Ley 18.133 – 2008 (ANEP/UTU – MEC – MTS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EFOP: Ley 18.406 – 2008 (MTSS, MEC, OPP – Trabajadores – Empresario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61760" y="452160"/>
            <a:ext cx="8636040" cy="63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3.- La Gobernanz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 del título: la gobernanza requiere destreza técnica, pero fundamentalmente un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cepción política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y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sposición real a la participación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, en todos los nive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gobernanza se debe sustentar en una política de participación que contemple 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odo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los actores: autoridades del gobierno, profesionales del Estado, la Universidad, los sindicatos, los empresarios y el resto de la sociedad civi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o de los resultados a buscar, es crear un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stitucionalidad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fectiva, eficiente y permanente, como el medio idóneo para garantizar la continuidad de las políticas y el logro de los impactos pensad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tarea nos debe involucrar a todos, por lo tanto l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rticulación y Coordinación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son objetivos específ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ener en cuenta las diferentes dimension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tra e inter, institucional y sectori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tra – gubernamen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0" y="280800"/>
            <a:ext cx="9361440" cy="70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abajar con profesionalidad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Una metodología de trabajo rigurosa supone diseñar mecanismos de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lanificación y evaluación de la política y los program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onitoreo y seguimien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idir en las prácticas educativ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cumular los aprendizajes del trabaj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formación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s un elemento clav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a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spon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tercambia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be ser: pertinente y releva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be estar en forma oportu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fundir y comunicar: informar y rendir cuentas,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tiva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operación Regional e Internacional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uede jugar un papel muy important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rticulan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ordinand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itimand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yudando a pens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1760" y="309600"/>
            <a:ext cx="8636040" cy="64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ONCLUS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conceptos de «educación de personas jóvenes y adultas» y «aprendizaje a lo largo de toda la vida» aún no son totalmente claros y comprendi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Resulta difícil movilizar o incluso identificar la gran variedad de actore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, para lograr una acción concertada y efectiv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oblemas conceptuale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inciden directamente en las dificultades de articulación y coordinació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EPJA y sus actores tienen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un problema de identidad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1760" y="1095120"/>
            <a:ext cx="863604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s fundamental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onstruir marcos teóricos y políticos más integrale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, con programas y proyectos que contribuyan al aprendizaje a lo largo y lo ancho de toda la vida de la gen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s necesario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rear relaciones más sólida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tre la educación, (incluyendo la EPJA), y otros sectores: trabajo, salud, programas sociales, educación física, recreación y deportes, escolar, ambiental, artística, comunicación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n general, la EPJAen Uruguay sigue siendo muy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fusa y vulnerable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1600" y="2585520"/>
            <a:ext cx="863604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Muchas gra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99960" y="856800"/>
            <a:ext cx="9072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1.- La política</a:t>
            </a:r>
            <a:r>
              <a:rPr b="1" i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arzo, 2005: educación para todos a lo largo de toda la vi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eación del Área de Educación No Formal en el ME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upos de Trabajo interinstituciona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No Form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y Trabaj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de Adul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vitación a prestar asistencia técnica a UNESCO y UIL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06: Participación en el Debate Educativo y Congreso Nacional de Educ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1760" y="569520"/>
            <a:ext cx="8636040" cy="62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incipales innovaciones educativ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C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rograma Nacional de Educación y Trabajo – CECAP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educación no formal para jóvenes de 15 a 20 años, vulnerables, no estudian, no trabaja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rograma Aprender Siempre (personas mayores de 20 año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estival de Aprendizaje, anualmente desde 200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EP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retoma la educación de personas jóvenes y adult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en contextos de encier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ID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lfabetiz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6880" y="713880"/>
            <a:ext cx="871092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ONFINTEA 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07: Creación del Comité Nacional Preparatorio de CONFINTEA 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oros Nacionales de Educación de Adul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ara: preparar CONFINTEA VI y 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nsibiliz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 Foro Nacional: Agosto 200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I Foro Nacional: Abril 200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  III Foro Nacional: Mayo 201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08: Participación en la Conferencia Regional de América Latina y El Caribe Preparatoria de CONFINTEA 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09: Participación en CONFINTEA 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1760" y="714240"/>
            <a:ext cx="86360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Reconocimiento leg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ciembre, 2008: Ley General de Educación Nº 18.43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l derecho a la educación, para todos los habitantes y a lo largo de toda la vida: art.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educación de personas jóvenes y adultas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ormal: un cometido expreso de la ANEP (art. 59 inc. 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o Formal: incluida en la definición (art. 3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romover y coordinar acciones educativas dirigidas a personas jóvenes y adultas: un cometido expreso del Consejo Nacional de Educación No Formal (art. 94 inc. 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ENFOR creado por art. 92  (instalación: Setiembre 2009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714240"/>
            <a:ext cx="86360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onceptos y definicion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aún hay diferencias entre la teoría y la prác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menciona la EPJA en los documentos de política y program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reconoce la importancia de promover el aprendizaje a lo largo de toda la vi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menciona la alfabetización en el texto legal, se reconoce su importancia, y se implementaron nuevas acciones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ero...aún falta mucho por avanzar; se mantiene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a visión tradicional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sobre la alfabetización y la educación de personas jóvenes y adult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4680" y="353520"/>
            <a:ext cx="9572760" cy="64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Tensiones y preocupacion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avances en el discurso, no se acompañan de avances conceptu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Alfabetiz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érdida del grado de relevancia que se le otorgó en el período 2005 –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cciones subordinadas al nivel de la educ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ducación </a:t>
            </a:r>
            <a:r>
              <a:rPr b="1" i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formal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 de personas jóvenes y adulta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alta de coordinación intrainstitucional en la AN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gestiona por sub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subsistemas de la educación media: básica, superior y técnico-profesional, no reconocen específicamente la EP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avances en objetivos, contenidos, metodología y perfil docente, así como en política educativa: descentralización territorial, articulaciones e innovaciones, se ubican exclusivamente para el nivel de la educ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2520" y="738000"/>
            <a:ext cx="921708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ducación </a:t>
            </a:r>
            <a:r>
              <a:rPr b="1" i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no formal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 de personas jóvenes y adulta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286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Reconocimiento reciente: desde 200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286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y General de Educación Nº 18437 – 200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286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eación de CONENFOR (2008) implementado en 2009: una estrategia interinstitucional, intersectorial, de articulación, coordinación y mejora de la calida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286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lusión de CONENFOR en el Comité de Articulación y Seguimiento de la EPJA (2010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l desarrollo de la educación en sentido amplio y profundo (que incluye la EPJA) y su articulación con las políticas públicas, la vida humana de todas las personas y la convivencia social, depende de incidir en el bloque conceptual hegemónico, social y cultur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1760" y="714240"/>
            <a:ext cx="86360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: ¿Economía vs. Ciudadanía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tes de 2005 la educación era entendida como la preparación para el empleo (hipótesis optimista); para obtener recurs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l desarrollo productivo y tecnológico actual pone al descubierto las carencias de políticas educativas anteriores y muestra las necesidades actuales y las perspectivas del desarrollo económic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oferta educativa es demasiado limitada para satisfacer la demanda económic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ctualmente hay una gran preocupación por impulsar más y mejor educación; quizás más motivados por la economía que por la ciudadaní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New Image</cp:lastModifiedBy>
  <dcterms:modified xsi:type="dcterms:W3CDTF">2011-05-25T18:08:28Z</dcterms:modified>
  <cp:revision>21</cp:revision>
  <dc:subject/>
  <dc:title>PowerPoint Presentation</dc:title>
</cp:coreProperties>
</file>