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503B-8688-4BF3-9B35-A8316D99977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o agregas tu mail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8D07-DFF4-48D9-AF7D-571DA6D1FC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gregué 3º f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F442-6297-4099-AFC1-5881D520466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ás detallando fechas, agregué la de instalación de CONENFOR.  Duda: diapo 8 – donde también figura conen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D600-609A-4BD7-9A2C-57228CE118E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gregué el número de 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D1BE-12A3-48B8-85D0-7A34CDC0ABA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2780-1A5A-49EC-9C6F-C1CBA057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434D-9DB9-47A5-B777-A112EBB5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1E8F-B9D2-4EB2-97EC-F2D6B8B2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68A0-2096-4E62-91AA-FD4EE999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3DE-EA65-412A-8072-7969BBC8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E8EE-6C32-4049-8C7B-AB69DA4C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BA68-2930-410E-ABEF-4C4A284D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F1A3-5B47-4501-B81E-A1A9278A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479-F51C-436C-87F4-27A65AA8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DB8F-7C01-4A16-B317-4D261BFD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E446-30DB-4FE9-AC48-9DC3F379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DD0-3738-43A2-9DD9-02EDE345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6943-2592-4ACF-A154-76A36E393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15600" y="2585880"/>
            <a:ext cx="87850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“</a:t>
            </a: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gobernanza, entre la política y la participación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experiencia uruguaya (2005 – 2011)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.- La polít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.- La participa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3.- La gobernanz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(De acuerdo al Documento Marco de la Reunión, se seleccionaron estos tres aspectos, pero no significa restar importancia a los otros dos: Financiación y Calida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Jorge Camo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MEC - Urugua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magen 1" descr="cid:9B3282EB-B006-41A0-A023-484662A72073"/>
          <p:cNvPicPr/>
          <p:nvPr/>
        </p:nvPicPr>
        <p:blipFill>
          <a:blip r:embed="rId1"/>
          <a:stretch/>
        </p:blipFill>
        <p:spPr>
          <a:xfrm>
            <a:off x="542880" y="209520"/>
            <a:ext cx="9288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1760" y="641520"/>
            <a:ext cx="8636040" cy="61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in crédito ni reconocimiento (aú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demanda de acreditación del aprendizaje no formal e informal ha aumentado significativamente entre la población adulta interesada en continuar su educación o buscar el reconocimiento de sus competencias para el empleo y proseguir su aprendizaje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Validación de conocimientos para habilitar la continuidad educativa (art. 39 – Ley 18.437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Un reconocimiento a los “conocimientos, habilidades y alcanzados por una persona fuera de la educación formal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¿estamos ante una contradicción conceptual? ¿dónde está el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valor educativo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61760" y="569520"/>
            <a:ext cx="8636040" cy="62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2.- La participación: un medio y un fi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participación es un principio fundamental de la educación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s metodologías que se apliquen deben favorecer la formación ciudadana y la autonomía de las personas (art. 9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l educando es y debe ser el sujeto de la educación (art. 5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política educativa nacional tendrá como objetivo fundamental, que todos los habitantes del país logren aprendizajes de calidad, a lo largo de toda la vida y en todo el país (art. 12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rechos y deberes de los educandos y de la familia (art. 72 a 75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nsejos de Participación en todo centro educativo público, integrado por estudiantes, educadores, familia y comunidad  (art. 76), con cometidos específicos y recursos (art. 77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1760" y="641520"/>
            <a:ext cx="8636040" cy="61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Principales acc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Programa Uruguay Estu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ducación y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309600"/>
            <a:ext cx="8636040" cy="64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Programa Uruguay Estud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mienza en el año 2009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terinstitucional: MEC – ANEP – Universidad – MTSS – MEF – OPP – BROU – C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Objetivos: Promover el aprendizaje a lo largo de toda la vida, estimular el estudio y culminación de los niveles educativos, facilitar la integración socia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mponent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duca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Bec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asantí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rédi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nvenio MEC – ANEP – INEF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nvenio MEC - BRO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61760" y="785520"/>
            <a:ext cx="863604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ducación y Trabaj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ducación a través del trabajo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es una de las 9 líneas transversales que debe contemplar el Sistema Nacional de Educación en cualquiera de sus modalidades (Ley 18.437 -    art. 40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inclusión explícita de la educación es una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novación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en las políticas de empleo; se resignifica la formación profesional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CAP: Ley 18.133 – 2008 (ANEP/UTU – MEC – MTS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EFOP: Ley 18.406 – 2008 (MTSS, MEC, OPP – Trabajadores – Empresario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61760" y="452160"/>
            <a:ext cx="8636040" cy="63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3.- La Gobernanz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 del título: la gobernanza requiere destreza técnica, pero fundamentalmente una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ncepción política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y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sposición real a la participación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, en todos los nive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gobernanza se debe sustentar en una política de participación que contemple a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odos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los actores: autoridades del gobierno, profesionales del Estado, la Universidad, los sindicatos, los empresarios y el resto de la sociedad civi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Uno de los resultados a buscar, es crear una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stitucionalidad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efectiva, eficiente y permanente, como el medio idóneo para garantizar la continuidad de las políticas y el logro de los impactos pensad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tarea nos debe involucrar a todos, por lo tanto la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rticulación y Coordinación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son objetivos específic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ener en cuenta las diferentes dimension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tra e inter, institucional y sectorial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tra – gubernamental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71600" y="280800"/>
            <a:ext cx="9361440" cy="70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rabajar con profesionalidad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Una metodología de trabajo rigurosa supone diseñar mecanismos de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lanificación y evaluación de la política y los program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monitoreo y seguimien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cidir en las prácticas educativ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cumular los aprendizajes del trabaj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formación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es un elemento clav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enera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spone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tercambia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be ser: pertinente y releva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be estar en forma oportun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fundir y comunicar: informar y rendir cuentas,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ducativam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operación Regional e Internacional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uede jugar un papel muy important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rticulan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ordinand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itimand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yudando a pens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1760" y="309600"/>
            <a:ext cx="8636040" cy="64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ONCLUS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s conceptos de «educación de personas jóvenes y adultas» y «aprendizaje a lo largo de toda la vida» aún no son totalmente claros y comprendi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Resulta difícil movilizar o incluso identificar la gran variedad de actores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, para lograr una acción concertada y efectiva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s </a:t>
            </a:r>
            <a:r>
              <a:rPr b="0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problemas conceptuales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inciden directamente en las dificultades de articulación y coordinación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EPJA y sus actores tienen </a:t>
            </a:r>
            <a:r>
              <a:rPr b="0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un problema de identidad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61760" y="1095120"/>
            <a:ext cx="863604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s fundamental </a:t>
            </a:r>
            <a:r>
              <a:rPr b="0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onstruir marcos teóricos y políticos más integrales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, con programas y proyectos que contribuyan al aprendizaje a lo largo y lo ancho de toda la vida de la gent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s necesario </a:t>
            </a:r>
            <a:r>
              <a:rPr b="0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rear relaciones más sólidas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entre la educación, (incluyendo la EPJA), y otros sectores: trabajo, salud, programas sociales, educación física, recreación y deportes, escolar, ambiental, artística, comunicación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n general, la EPJAen Uruguay sigue siendo muy </a:t>
            </a:r>
            <a:r>
              <a:rPr b="0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fusa y vulnerable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1600" y="2585520"/>
            <a:ext cx="8636040" cy="12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Times New Roman"/>
              </a:rPr>
              <a:t>Muchas graci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99960" y="856800"/>
            <a:ext cx="9072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1.- La política</a:t>
            </a:r>
            <a:r>
              <a:rPr b="1" i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Marzo, 2005: educación para todos a lo largo de toda la vi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reación del Área de Educación No Formal en el ME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Grupos de Trabajo interinstituciona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ducación No Form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ducación y Trabaj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ducación de Adult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vitación a prestar asistencia técnica a UNESCO y UIL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006: Participación en el Debate Educativo y Congreso Nacional de Educa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1760" y="569520"/>
            <a:ext cx="8636040" cy="62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Principales innovaciones educativ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MEC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rograma Nacional de Educación y Trabajo – CECAP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    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(educación no formal para jóvenes de 15 a 20 años, vulnerables, no estudian, no trabaja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rograma Aprender Siempre (personas mayores de 20 año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estival de Aprendizaje, anualmente desde 200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NEP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e retoma la educación de personas jóvenes y adult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ducación en contextos de encier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MID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lfabetiza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6880" y="713880"/>
            <a:ext cx="871092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ONFINTEA V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007: Creación del Comité Nacional Preparatorio de CONFINTEA V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oros Nacionales de Educación de Adult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ara: preparar CONFINTEA VI y </a:t>
            </a: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ensibiliz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 Foro Nacional: Agosto 200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I Foro Nacional: Abril 2009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-  III Foro Nacional: Mayo 201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008: Participación en la Conferencia Regional de América Latina y El Caribe Preparatoria de CONFINTEA V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009: Participación en CONFINTEA V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61760" y="714240"/>
            <a:ext cx="863604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Reconocimiento leg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ciembre, 2008: Ley General de Educación Nº 18.43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l derecho a la educación, para todos los habitantes y a lo largo de toda la vida: art. 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educación de personas jóvenes y adultas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ormal: un cometido expreso de la ANEP (art. 59 inc. P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No Formal: incluida en la definición (art. 3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romover y coordinar acciones educativas dirigidas a personas jóvenes y adultas: un cometido expreso del Consejo Nacional de Educación No Formal (art. 94 inc. 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NENFOR creado por art. 92  (instalación: Setiembre 2009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1760" y="714240"/>
            <a:ext cx="8636040" cy="60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onceptos y definicion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aún hay diferencias entre la teoría y la práct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e menciona la EPJA en los documentos de política y programa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e reconoce la importancia de promover el aprendizaje a lo largo de toda la vi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e menciona la alfabetización en el texto legal, se reconoce su importancia, y se implementaron nuevas acciones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ero...aún falta mucho por avanzar; se mantiene </a:t>
            </a: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una visión tradicional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sobre la alfabetización y la educación de personas jóvenes y adult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64680" y="353520"/>
            <a:ext cx="9572760" cy="64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Tensiones y preocupacion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s avances en el discurso, no se acompañan de avances conceptu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Alfabetiz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érdida del grado de relevancia que se le otorgó en el período 2005 –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cciones subordinadas al nivel de la educación 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ducación </a:t>
            </a:r>
            <a:r>
              <a:rPr b="1" i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formal</a:t>
            </a:r>
            <a:r>
              <a:rPr b="0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 de personas jóvenes y adultas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alta de coordinación intrainstitucional en la ANE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e gestiona por subsiste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s subsistemas de la educación media: básica, superior y técnico-profesional, no reconocen específicamente la EP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s avances en objetivos, contenidos, metodología y perfil docente, así como en política educativa: descentralización territorial, articulaciones e innovaciones, se ubican exclusivamente para el nivel de la educación 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42520" y="738000"/>
            <a:ext cx="9217080" cy="60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ducación </a:t>
            </a:r>
            <a:r>
              <a:rPr b="1" i="1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no formal</a:t>
            </a:r>
            <a:r>
              <a:rPr b="0" lang="es-ES_tradnl" sz="25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 de personas jóvenes y adulta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6240" indent="-2286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Reconocimiento reciente: desde 200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6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6240" indent="-2286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y General de Educación Nº 18437 – 200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6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6240" indent="-2286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reación de CONENFOR (2008) implementado en 2009: una estrategia interinstitucional, intersectorial, de articulación, coordinación y mejora de la calida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6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6240" indent="-2286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clusión de CONENFOR en el Comité de Articulación y Seguimiento de la EPJA (2010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l desarrollo de la educación en sentido amplio y profundo (que incluye la EPJA) y su articulación con las políticas públicas, la vida humana de todas las personas y la convivencia social, depende de incidir en el bloque conceptual hegemónico, social y cultura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1760" y="714240"/>
            <a:ext cx="863604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ducación: ¿Economía vs. Ciudadanía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ntes de 2005 la educación era entendida como la preparación para el empleo (hipótesis optimista); para obtener recurs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l desarrollo productivo y tecnológico actual pone al descubierto las carencias de políticas educativas anteriores y muestra las necesidades actuales y las perspectivas del desarrollo económic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 oferta educativa es demasiado limitada para satisfacer la demanda económica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ctualmente hay una gran preocupación por impulsar más y mejor educación; quizás más motivados por la economía que por la ciudadaní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New Image</cp:lastModifiedBy>
  <dcterms:modified xsi:type="dcterms:W3CDTF">2011-05-25T18:08:28Z</dcterms:modified>
  <cp:revision>21</cp:revision>
  <dc:subject/>
  <dc:title>PowerPoint Presentation</dc:title>
</cp:coreProperties>
</file>