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AC2-0402-4FBA-849A-EE9BFFC5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547-FB88-4D18-897C-DF59504A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C8D-3E63-4912-B9AF-EC09D954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80F-BDB4-4F6A-9240-37B05665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36A-D77B-441A-A44C-D916A4A8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243-E4F6-41DA-B730-A9F21638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2D3-6F61-4B81-973E-8106097D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507-D9C9-4517-B5E9-FA2D2A8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573-CD33-4DCB-B39D-0AFFCE1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461-6551-40B6-AD81-49E60E91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8D3-3A4E-4BD4-8236-C6BDC44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FBB-5D3C-4FA0-AD19-2600635C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84CD-7961-44F7-9757-2BDF0B420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POLÍTICA Y GOBERNANZA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808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O – MAR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0" y="12600"/>
            <a:ext cx="9144000" cy="752400"/>
            <a:chOff x="0" y="12600"/>
            <a:chExt cx="9144000" cy="752400"/>
          </a:xfrm>
        </p:grpSpPr>
        <p:pic>
          <p:nvPicPr>
            <p:cNvPr id="44" name="INTERIOR present 2010.eps" descr="/Users/saraipozodevilla/Desktop/INTERIOR present 2010.eps"/>
            <p:cNvPicPr/>
            <p:nvPr/>
          </p:nvPicPr>
          <p:blipFill>
            <a:blip r:embed="rId1"/>
            <a:srcRect l="50003" t="0" r="0" b="83596"/>
            <a:stretch/>
          </p:blipFill>
          <p:spPr>
            <a:xfrm>
              <a:off x="6084720" y="12600"/>
              <a:ext cx="30592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INTERIOR present 2010.eps" descr="/Users/saraipozodevilla/Desktop/INTERIOR present 2010.eps"/>
            <p:cNvPicPr/>
            <p:nvPr/>
          </p:nvPicPr>
          <p:blipFill>
            <a:blip r:embed="rId2"/>
            <a:srcRect l="0" t="89911" r="47640" b="0"/>
            <a:stretch/>
          </p:blipFill>
          <p:spPr>
            <a:xfrm>
              <a:off x="0" y="44280"/>
              <a:ext cx="478800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6 CuadroTexto"/>
          <p:cNvSpPr/>
          <p:nvPr/>
        </p:nvSpPr>
        <p:spPr>
          <a:xfrm>
            <a:off x="287280" y="1959120"/>
            <a:ext cx="85327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¿QUE COSAS HEMOS REALIZADO QUE NOS PARECEN EXITOSAS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¿CÓMO LAS HEMOS REALIZADO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¿QUÉ PROBLEMÁTICAS HEMOS TENIDO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¿CUÁLES SON LOS DESAFÍOS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INTRODUCCIÓN INEA MÉXICO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808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O – MAR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0" y="12600"/>
            <a:ext cx="9144000" cy="752400"/>
            <a:chOff x="0" y="12600"/>
            <a:chExt cx="9144000" cy="752400"/>
          </a:xfrm>
        </p:grpSpPr>
        <p:pic>
          <p:nvPicPr>
            <p:cNvPr id="49" name="INTERIOR present 2010.eps" descr="/Users/saraipozodevilla/Desktop/INTERIOR present 2010.eps"/>
            <p:cNvPicPr/>
            <p:nvPr/>
          </p:nvPicPr>
          <p:blipFill>
            <a:blip r:embed="rId1"/>
            <a:srcRect l="50003" t="0" r="0" b="83596"/>
            <a:stretch/>
          </p:blipFill>
          <p:spPr>
            <a:xfrm>
              <a:off x="6084720" y="12600"/>
              <a:ext cx="30592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INTERIOR present 2010.eps" descr="/Users/saraipozodevilla/Desktop/INTERIOR present 2010.eps"/>
            <p:cNvPicPr/>
            <p:nvPr/>
          </p:nvPicPr>
          <p:blipFill>
            <a:blip r:embed="rId2"/>
            <a:srcRect l="0" t="89911" r="47640" b="0"/>
            <a:stretch/>
          </p:blipFill>
          <p:spPr>
            <a:xfrm>
              <a:off x="0" y="44280"/>
              <a:ext cx="478800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6 CuadroTexto"/>
          <p:cNvSpPr/>
          <p:nvPr/>
        </p:nvSpPr>
        <p:spPr>
          <a:xfrm>
            <a:off x="179280" y="1268280"/>
            <a:ext cx="8640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1.-Medidas legislativa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a) Contacto permanen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b) Iniciativas de le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2.- Coordinarnos con otros actor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lang="es-MX" sz="3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CONEVYT, consolidación de la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oferta educativ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es-MX" sz="3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Transversalidad de políticas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pública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808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O – MAR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0" y="12600"/>
            <a:ext cx="9144000" cy="752400"/>
            <a:chOff x="0" y="12600"/>
            <a:chExt cx="9144000" cy="752400"/>
          </a:xfrm>
        </p:grpSpPr>
        <p:pic>
          <p:nvPicPr>
            <p:cNvPr id="54" name="INTERIOR present 2010.eps" descr="/Users/saraipozodevilla/Desktop/INTERIOR present 2010.eps"/>
            <p:cNvPicPr/>
            <p:nvPr/>
          </p:nvPicPr>
          <p:blipFill>
            <a:blip r:embed="rId1"/>
            <a:srcRect l="50003" t="0" r="0" b="83596"/>
            <a:stretch/>
          </p:blipFill>
          <p:spPr>
            <a:xfrm>
              <a:off x="6084720" y="12600"/>
              <a:ext cx="30592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INTERIOR present 2010.eps" descr="/Users/saraipozodevilla/Desktop/INTERIOR present 2010.eps"/>
            <p:cNvPicPr/>
            <p:nvPr/>
          </p:nvPicPr>
          <p:blipFill>
            <a:blip r:embed="rId2"/>
            <a:srcRect l="0" t="89911" r="47640" b="0"/>
            <a:stretch/>
          </p:blipFill>
          <p:spPr>
            <a:xfrm>
              <a:off x="0" y="44280"/>
              <a:ext cx="478800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6 CuadroTexto"/>
          <p:cNvSpPr/>
          <p:nvPr/>
        </p:nvSpPr>
        <p:spPr>
          <a:xfrm>
            <a:off x="324000" y="126828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3.-Mecanismos para validar y acreditar resultados de aprendizaj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a) Equivalencia de módul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1" lang="es-MX" sz="34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Sistema Automatizado de 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Seguimiento y acreditació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4.- Descentralizació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a) Participación de las entidades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con recursos y acciones 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3400" spc="-1" strike="noStrike">
                <a:solidFill>
                  <a:srgbClr val="000000"/>
                </a:solidFill>
                <a:latin typeface="Calibri"/>
              </a:rPr>
              <a:t>coordinada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8080" y="3889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O – MAR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0" y="12600"/>
            <a:ext cx="9144000" cy="752400"/>
            <a:chOff x="0" y="12600"/>
            <a:chExt cx="9144000" cy="752400"/>
          </a:xfrm>
        </p:grpSpPr>
        <p:pic>
          <p:nvPicPr>
            <p:cNvPr id="59" name="INTERIOR present 2010.eps" descr="/Users/saraipozodevilla/Desktop/INTERIOR present 2010.eps"/>
            <p:cNvPicPr/>
            <p:nvPr/>
          </p:nvPicPr>
          <p:blipFill>
            <a:blip r:embed="rId1"/>
            <a:srcRect l="50003" t="0" r="0" b="83596"/>
            <a:stretch/>
          </p:blipFill>
          <p:spPr>
            <a:xfrm>
              <a:off x="6084720" y="12600"/>
              <a:ext cx="305928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INTERIOR present 2010.eps" descr="/Users/saraipozodevilla/Desktop/INTERIOR present 2010.eps"/>
            <p:cNvPicPr/>
            <p:nvPr/>
          </p:nvPicPr>
          <p:blipFill>
            <a:blip r:embed="rId2"/>
            <a:srcRect l="0" t="89911" r="47640" b="0"/>
            <a:stretch/>
          </p:blipFill>
          <p:spPr>
            <a:xfrm>
              <a:off x="0" y="44280"/>
              <a:ext cx="478800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6 CuadroTexto"/>
          <p:cNvSpPr/>
          <p:nvPr/>
        </p:nvSpPr>
        <p:spPr>
          <a:xfrm>
            <a:off x="826920" y="126828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.- Formación de los educ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oración Diagnóst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joramiento del perfil del ases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- Uso de las 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) Plazas  comunitar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) Exámenes en Lín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0:26:01Z</dcterms:created>
  <dc:creator>Juan</dc:creator>
  <dc:description/>
  <dc:language>en-US</dc:language>
  <cp:lastModifiedBy>New Image</cp:lastModifiedBy>
  <dcterms:modified xsi:type="dcterms:W3CDTF">2011-05-25T13:25:36Z</dcterms:modified>
  <cp:revision>10</cp:revision>
  <dc:subject/>
  <dc:title>POLÍTICA Y GOBERNANZA  </dc:title>
</cp:coreProperties>
</file>