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3EB-3C5A-4C26-8337-6D4AC603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D1E-1984-4884-86D2-1D7889F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0CC-3415-4175-A4CA-0CA5034B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B94-3686-4093-B89A-B311193E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FCA-C8AB-4562-B2F8-1782F54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F9F-5F54-40A6-A630-55C16EB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F5F-74D7-4B30-AB1F-FB41D8E9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93C-2B49-43D5-9BA6-EB8D419A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4E6-AFD6-4002-A8A3-468F9C3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37F-7987-46DE-8BD6-DBA6BBA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22E-AC9E-443A-98D3-5CFBCAF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B7C-B3A8-4FB4-8C9F-9B82D98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0BF-EA7C-41FF-8953-274F63BC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POLÍTICA Y GOBERNANZA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44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6 CuadroTexto"/>
          <p:cNvSpPr/>
          <p:nvPr/>
        </p:nvSpPr>
        <p:spPr>
          <a:xfrm>
            <a:off x="287280" y="1959120"/>
            <a:ext cx="8532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QUE COSAS HEMOS REALIZADO QUE NOS PARECEN EXITOSAS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CÓMO LAS HEMOS REALIZADO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QUÉ PROBLEMÁTICAS HEMOS TENIDO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CUÁLES SON LOS DESAFÍOS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INTRODUCCIÓN INEA MÉXICO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49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6 CuadroTexto"/>
          <p:cNvSpPr/>
          <p:nvPr/>
        </p:nvSpPr>
        <p:spPr>
          <a:xfrm>
            <a:off x="179280" y="1268280"/>
            <a:ext cx="8640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1.-Medidas legislativa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Contacto permanen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 Iniciativas de le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2.- Coordinarnos con otros actor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NEVYT, consolidación de la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oferta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Transversalidad de política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públic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54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6 CuadroTexto"/>
          <p:cNvSpPr/>
          <p:nvPr/>
        </p:nvSpPr>
        <p:spPr>
          <a:xfrm>
            <a:off x="324000" y="126828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3.-Mecanismos para validar y acreditar resultados de aprendizaj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Equivalencia de módul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Sistema Automatizado de 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Seguimiento y acreditació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4.- Descentralizació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Participación de las entidade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n recursos y accione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ordinad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59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6 CuadroTexto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- Formación de los educ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oración Diagnós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joramiento del perfil del ases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- Uso de las 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) Plazas  comunitar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) Exámenes en L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0:26:01Z</dcterms:created>
  <dc:creator>Juan</dc:creator>
  <dc:description/>
  <dc:language>en-US</dc:language>
  <cp:lastModifiedBy>New Image</cp:lastModifiedBy>
  <dcterms:modified xsi:type="dcterms:W3CDTF">2011-05-25T13:25:36Z</dcterms:modified>
  <cp:revision>10</cp:revision>
  <dc:subject/>
  <dc:title>POLÍTICA Y GOBERNANZA  </dc:title>
</cp:coreProperties>
</file>