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fundo master"/>
          <p:cNvPicPr/>
          <p:nvPr/>
        </p:nvPicPr>
        <p:blipFill>
          <a:blip r:embed="rId2"/>
          <a:stretch/>
        </p:blipFill>
        <p:spPr>
          <a:xfrm>
            <a:off x="152280" y="76320"/>
            <a:ext cx="6324840" cy="31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timothy.ireland@unesco.org.br" TargetMode="External"/><Relationship Id="rId2" Type="http://schemas.openxmlformats.org/officeDocument/2006/relationships/hyperlink" Target="mailto:Ireland.timothy@gmai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ACIA UN SISTEMA DE INDICADORES PARA MONITOREO Y EVALUACIÓN DE LA EDUCACIÓN DE PERSONAS JÓVENES Y ADULTAS EN AMÉRICA LATINA Y EL CA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Una propuesta a partir de los datos y la información dispon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C/SECAD,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ESCO, Brasília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6.</a:t>
            </a: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 Análisis y sistematización de la información disponible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ugerir un conjunto de indicadores capaz de proveer la información mínima imprescindible sobre la situación de la EPJ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Verificar qué datos se pueden recoger en todos los países;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ra los países en que no se puede recabar esa información, formular un conjunto de recomendaciones para aprovechar los sistemas de información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7. Fuentes de los da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ncuestas de hogares (cuestionarios utilizados, manuales del entrevist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gistros administrativos referentes a las escuelas y las matrí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8. Conjunto de 55 Indicadores de Monitoreo para EP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9. Los retos a enfrent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oncepto de alfabetización absoluto y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ómo indicar la educación no form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ómo indicar la educación inform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osto de la aplicación de nuevos ind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apacidad dos países para recopilar informaciones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onfiabilidad de la información recog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bilidad y continuidad institucional y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timothy.ireland@unesco.org.br</a:t>
            </a: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reland.timothy@gmail.com</a:t>
            </a: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Fone: (61) 2106-35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tângulo 3"/>
          <p:cNvSpPr/>
          <p:nvPr/>
        </p:nvSpPr>
        <p:spPr>
          <a:xfrm>
            <a:off x="1785960" y="2274840"/>
            <a:ext cx="700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upo consultor de la UN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uricio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celo Pes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a B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elly Mir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spaço Reservado para Conteúdo 3" descr="cid:image001.jpg@01CC0F42.335D9150"/>
          <p:cNvPicPr/>
          <p:nvPr/>
        </p:nvPicPr>
        <p:blipFill>
          <a:blip r:embed="rId1"/>
          <a:stretch/>
        </p:blipFill>
        <p:spPr>
          <a:xfrm>
            <a:off x="1476360" y="1628640"/>
            <a:ext cx="5975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1. Propues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laborar un sistema de indicadores para el aprendizaje y la educación de adultos, en América Latina y el Caribe, articulado fuertemente con el Marco de Acción de Belém, como forma de contribuir para medidas para monitorear la implementación de las recomendaciones e compromisos aprobados en Belém en diciembre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Marco de Acción de Belém reconoce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“(...) </a:t>
            </a:r>
            <a:r>
              <a:rPr b="0" i="1" lang="es-ES" sz="2600" spc="-1" strike="noStrike">
                <a:solidFill>
                  <a:srgbClr val="000000"/>
                </a:solidFill>
                <a:latin typeface="Trebuchet MS"/>
              </a:rPr>
              <a:t>la necesidad de datos cuantitativos y cualitativos válidos y fiables en los que basar la elaboración de nuestras políticas relativas al aprendizaje y la educación de adultos. Colaborar con nuestros asociados para concebir y poner en práctica mecanismos de registro y  seguimiento  sistemáticos  en  los  planos  nacional  e  internacional  es  de primordial importancia para llevar a cabo el Marco de Acción de Belém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3. Desarrollo de la propues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resentación de propuesta en la 1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unión del Grupo Asesor de la CONFINTEA – marzo de 20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unión durante el 1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 Congreso Internacional de la Cátedra UNESCO de EPEJA, en João Pessoa (julio): UNESCO, CREFAL, OEI, ICAE, CEA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unión del PRELAC (25/11): presentación de propuest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unión regional técnica (América Latina y Caribe) en el Rio de Janeiro – 14-16/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Taller internacional del UIL, en Enero 20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4. Premisas orientadoras de la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1) La recogida de datos debe ser realizada bajo una óptica multidimensional y sistemát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2) Acceso a dat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3) Garantía de estabilidad de la información en el futu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4) Representatividad de los indicador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5) Calidad, comparabilidad y periodicidad de la información son criterios que deben ser cumpli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6) Herramienta útil para medir los progresos de acuerdo con las directrices del Marco de Acción de Belé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7) Financiamiento de los sistemas nacionales de EPJ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8) Instrumento de control por parte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5. Metodología de trabajo (cuatro dimensiones o subconjuntos de indicador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dores de demanda por EPJ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dores de oferta de EPJ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dores de gestión y gobernanz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dores de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45:25Z</dcterms:created>
  <dc:creator>DEFAULT</dc:creator>
  <dc:description/>
  <dc:language>en-US</dc:language>
  <cp:lastModifiedBy>Timothy Ireland</cp:lastModifiedBy>
  <dcterms:modified xsi:type="dcterms:W3CDTF">2011-05-25T04:24:37Z</dcterms:modified>
  <cp:revision>97</cp:revision>
  <dc:subject/>
  <dc:title>PowerPoint Presentation</dc:title>
</cp:coreProperties>
</file>