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A6D9-45E9-4979-9A14-F7FB9E45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931-B35B-41E9-961A-D0D13893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517-2E66-402E-BED5-E2CAC094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8417-234A-4207-81A5-D7EFA7C9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1975-91FA-4D48-9EE3-69B5B4E7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7B4-9E8B-4CD3-9954-D4AB9879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A2CE-6416-444B-91E6-765EB477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D8C-0567-4CA8-9077-E6D33696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9AA0-E004-4751-9447-C0B7A644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7D0A-7F39-48AA-8CF2-A49C1726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DEC3-50B1-45AD-9703-1437BAA0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0F39-DD2A-45C5-A28C-1BE12C5A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E44C-15D5-4259-8518-4011206998E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mailto:maurosilva@mec.gov.br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2f2f2"/>
                </a:solidFill>
                <a:latin typeface="Calibri"/>
              </a:rPr>
              <a:t>POLÍTICA Y GOBERNANZA</a:t>
            </a:r>
            <a:br>
              <a:rPr sz="3200"/>
            </a:br>
            <a:r>
              <a:rPr b="1" lang="pt-BR" sz="3200" spc="-1" strike="noStrike">
                <a:solidFill>
                  <a:srgbClr val="f2f2f2"/>
                </a:solidFill>
                <a:latin typeface="Calibri"/>
              </a:rPr>
              <a:t>La EPJA Pós - CONFINTEA 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92360" y="6215040"/>
            <a:ext cx="6400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Mayo/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36720"/>
          </a:xfrm>
          <a:prstGeom prst="rect">
            <a:avLst/>
          </a:prstGeom>
          <a:ln w="0">
            <a:noFill/>
          </a:ln>
        </p:spPr>
      </p:pic>
      <p:sp>
        <p:nvSpPr>
          <p:cNvPr id="45" name="Título 1"/>
          <p:cNvSpPr/>
          <p:nvPr/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2f2f2"/>
                </a:solidFill>
                <a:latin typeface="Calibri"/>
              </a:rPr>
              <a:t>Ministerio de Educación de Bras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720" y="980640"/>
            <a:ext cx="885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2800"/>
            </a:b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OROS DE EDUCACIÓN DE PERSONAS JÓVENES Y ADULTAS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ovimientos sociales de articulaciones regionales o estatales de instituciones relacionadas con la EPJ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nstituido a partir de la preparación para la CONFINTEA V en el año de 1996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27 estatales y 52 regional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 encuentran una vez por año (ENEJA) 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Grupo 11"/>
          <p:cNvGrpSpPr/>
          <p:nvPr/>
        </p:nvGrpSpPr>
        <p:grpSpPr>
          <a:xfrm>
            <a:off x="0" y="0"/>
            <a:ext cx="9144000" cy="865080"/>
            <a:chOff x="0" y="0"/>
            <a:chExt cx="9144000" cy="865080"/>
          </a:xfrm>
        </p:grpSpPr>
        <p:pic>
          <p:nvPicPr>
            <p:cNvPr id="118" name="Picture 9" descr=""/>
            <p:cNvPicPr/>
            <p:nvPr/>
          </p:nvPicPr>
          <p:blipFill>
            <a:blip r:embed="rId1"/>
            <a:stretch/>
          </p:blipFill>
          <p:spPr>
            <a:xfrm>
              <a:off x="0" y="432360"/>
              <a:ext cx="914400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3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" name="Picture 8" descr=""/>
          <p:cNvPicPr/>
          <p:nvPr/>
        </p:nvPicPr>
        <p:blipFill>
          <a:blip r:embed="rId3"/>
          <a:stretch/>
        </p:blipFill>
        <p:spPr>
          <a:xfrm>
            <a:off x="6877080" y="6165720"/>
            <a:ext cx="2266920" cy="6922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9"/>
          <p:cNvSpPr/>
          <p:nvPr/>
        </p:nvSpPr>
        <p:spPr>
          <a:xfrm>
            <a:off x="5725440" y="47628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2800"/>
            </a:b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LAN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NACIONAL DE EDUCACIÓN - 2010/2020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irectriz para las políticas educativas en el paí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Valorización de la enseñanz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alidad de la educació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levación de la escolar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lfabetización de personas adult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ducación de personas jóvenes y adultas integrada a la educación profesional y a los procesos de Economía Solidar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mpliación de la inversión pública en educación el 7% del PI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Grupo 11"/>
          <p:cNvGrpSpPr/>
          <p:nvPr/>
        </p:nvGrpSpPr>
        <p:grpSpPr>
          <a:xfrm>
            <a:off x="0" y="0"/>
            <a:ext cx="9144000" cy="865080"/>
            <a:chOff x="0" y="0"/>
            <a:chExt cx="9144000" cy="865080"/>
          </a:xfrm>
        </p:grpSpPr>
        <p:pic>
          <p:nvPicPr>
            <p:cNvPr id="125" name="Picture 9" descr=""/>
            <p:cNvPicPr/>
            <p:nvPr/>
          </p:nvPicPr>
          <p:blipFill>
            <a:blip r:embed="rId1"/>
            <a:stretch/>
          </p:blipFill>
          <p:spPr>
            <a:xfrm>
              <a:off x="0" y="432360"/>
              <a:ext cx="914400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3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Picture 8" descr=""/>
          <p:cNvPicPr/>
          <p:nvPr/>
        </p:nvPicPr>
        <p:blipFill>
          <a:blip r:embed="rId3"/>
          <a:stretch/>
        </p:blipFill>
        <p:spPr>
          <a:xfrm>
            <a:off x="6877080" y="6165720"/>
            <a:ext cx="2266920" cy="692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5725440" y="47628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"/>
          <p:cNvPicPr/>
          <p:nvPr/>
        </p:nvPicPr>
        <p:blipFill>
          <a:blip r:embed="rId1"/>
          <a:stretch/>
        </p:blipFill>
        <p:spPr>
          <a:xfrm>
            <a:off x="7000920" y="6318360"/>
            <a:ext cx="2143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130" name="Grupo 11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131" name="Picture 9" descr=""/>
            <p:cNvPicPr/>
            <p:nvPr/>
          </p:nvPicPr>
          <p:blipFill>
            <a:blip r:embed="rId2"/>
            <a:stretch/>
          </p:blipFill>
          <p:spPr>
            <a:xfrm>
              <a:off x="0" y="418320"/>
              <a:ext cx="9144000" cy="41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41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LAN PLURIANUAL (PPA) - 2012/2015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upone una nueva relación con los instrumentos de la acción del gobierno y una nueva manera de comunicación con los actores y con la sociedad involucrados en la implementació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structura con enfoque en los resultados y un programa de educación básica en su conjunto. 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50920" y="278136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95280" y="2781360"/>
            <a:ext cx="820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5725440" y="47628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7000920" y="6318360"/>
            <a:ext cx="2143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139" name="Grupo 11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140" name="Picture 9" descr=""/>
            <p:cNvPicPr/>
            <p:nvPr/>
          </p:nvPicPr>
          <p:blipFill>
            <a:blip r:embed="rId2"/>
            <a:stretch/>
          </p:blipFill>
          <p:spPr>
            <a:xfrm>
              <a:off x="0" y="418320"/>
              <a:ext cx="9144000" cy="41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41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Gracia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maurosilva@mec.gov.b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250920" y="278136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95280" y="2781360"/>
            <a:ext cx="820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5725440" y="47628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7000920" y="6318360"/>
            <a:ext cx="2143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47" name="Grupo 11"/>
          <p:cNvGrpSpPr/>
          <p:nvPr/>
        </p:nvGrpSpPr>
        <p:grpSpPr>
          <a:xfrm>
            <a:off x="0" y="0"/>
            <a:ext cx="9144000" cy="1428840"/>
            <a:chOff x="0" y="0"/>
            <a:chExt cx="9144000" cy="1428840"/>
          </a:xfrm>
        </p:grpSpPr>
        <p:pic>
          <p:nvPicPr>
            <p:cNvPr id="48" name="Picture 9" descr=""/>
            <p:cNvPicPr/>
            <p:nvPr/>
          </p:nvPicPr>
          <p:blipFill>
            <a:blip r:embed="rId2"/>
            <a:stretch/>
          </p:blipFill>
          <p:spPr>
            <a:xfrm>
              <a:off x="0" y="714240"/>
              <a:ext cx="914400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148392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DATOS ESTADÍSTICOS DE LA EP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0920" y="2220840"/>
          <a:ext cx="8570880" cy="4102200"/>
        </p:xfrm>
        <a:graphic>
          <a:graphicData uri="http://schemas.openxmlformats.org/drawingml/2006/table">
            <a:tbl>
              <a:tblPr/>
              <a:tblGrid>
                <a:gridCol w="6121440"/>
                <a:gridCol w="1655640"/>
                <a:gridCol w="793800"/>
              </a:tblGrid>
              <a:tr h="387000">
                <a:tc>
                  <a:txBody>
                    <a:bodyPr lIns="90000" rIns="90000" tIns="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DICAD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BSOLU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613800">
                <a:tc>
                  <a:txBody>
                    <a:bodyPr lIns="90000" rIns="90000" tIns="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BLACIÓN ANALFABETA (censo 20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años o más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.940.7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,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296960">
                <a:tc>
                  <a:txBody>
                    <a:bodyPr lIns="90000" rIns="90000" tIns="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S SIN LA ENSEÑANZA FUNDAMEN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NAD 2009) </a:t>
                      </a:r>
                      <a:br>
                        <a:rPr sz="2000"/>
                      </a:b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 años o m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 años o m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4.739.6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.501.9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0,7                     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97120">
                <a:tc>
                  <a:txBody>
                    <a:bodyPr lIns="90000" rIns="90000" tIns="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ASISTENCIA EP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NAD 2009 y Censo Escolar 2009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.661.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18720">
                <a:tc>
                  <a:txBody>
                    <a:bodyPr lIns="90000" rIns="90000" tIns="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ESTROS QUE ACTUAN EN LA EPJA (Censo Escolar 2009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65.7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264"/>
          <p:cNvSpPr/>
          <p:nvPr/>
        </p:nvSpPr>
        <p:spPr>
          <a:xfrm>
            <a:off x="5796000" y="90792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"/>
          <p:cNvPicPr/>
          <p:nvPr/>
        </p:nvPicPr>
        <p:blipFill>
          <a:blip r:embed="rId1"/>
          <a:stretch/>
        </p:blipFill>
        <p:spPr>
          <a:xfrm>
            <a:off x="7000920" y="6318360"/>
            <a:ext cx="2143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54" name="Grupo 11"/>
          <p:cNvGrpSpPr/>
          <p:nvPr/>
        </p:nvGrpSpPr>
        <p:grpSpPr>
          <a:xfrm>
            <a:off x="0" y="0"/>
            <a:ext cx="9144000" cy="1428840"/>
            <a:chOff x="0" y="0"/>
            <a:chExt cx="9144000" cy="1428840"/>
          </a:xfrm>
        </p:grpSpPr>
        <p:pic>
          <p:nvPicPr>
            <p:cNvPr id="55" name="Picture 9" descr=""/>
            <p:cNvPicPr/>
            <p:nvPr/>
          </p:nvPicPr>
          <p:blipFill>
            <a:blip r:embed="rId2"/>
            <a:stretch/>
          </p:blipFill>
          <p:spPr>
            <a:xfrm>
              <a:off x="0" y="714240"/>
              <a:ext cx="914400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ORGANIZACIÓN DE LA OFERTA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000" y="256500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acto del gobierno federal y régime de colaboración para ampliar la cantidad de matrícula y el fortalecimiento de la red de enseñanz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a responsabilidad de la educación es compartida entre los tres niveles de gobierno, implicando la implementación de políticas públicas integradas con mecanismos de control mutuo y acciones coordin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5725440" y="90792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RINCIPIOS FUNDAMENTALES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643040"/>
            <a:ext cx="8352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lfabetización articulada con la EP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ducación continuada: buscando transponer los límites de la educación formal y destacar el programa de educación para toda la vid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lfabetización como una prioridad política y foco en la ciudadaní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speto a las diversidades: étnica, racial, cultural, de género, nivel social, ambiental y regiona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aturaleza interdisciplinaria y transversal, en la perspectiva intersectorial - educación y los derechos humanos, salud, cultura, trabajo y medio ambiente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upo 11"/>
          <p:cNvGrpSpPr/>
          <p:nvPr/>
        </p:nvGrpSpPr>
        <p:grpSpPr>
          <a:xfrm>
            <a:off x="0" y="0"/>
            <a:ext cx="9144000" cy="981000"/>
            <a:chOff x="0" y="0"/>
            <a:chExt cx="9144000" cy="981000"/>
          </a:xfrm>
        </p:grpSpPr>
        <p:pic>
          <p:nvPicPr>
            <p:cNvPr id="63" name="Picture 9" descr=""/>
            <p:cNvPicPr/>
            <p:nvPr/>
          </p:nvPicPr>
          <p:blipFill>
            <a:blip r:embed="rId1"/>
            <a:stretch/>
          </p:blipFill>
          <p:spPr>
            <a:xfrm>
              <a:off x="0" y="490320"/>
              <a:ext cx="91440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9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Picture 8" descr=""/>
          <p:cNvPicPr/>
          <p:nvPr/>
        </p:nvPicPr>
        <p:blipFill>
          <a:blip r:embed="rId3"/>
          <a:stretch/>
        </p:blipFill>
        <p:spPr>
          <a:xfrm>
            <a:off x="6877080" y="6165720"/>
            <a:ext cx="2266920" cy="692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5725440" y="62064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7000920" y="6318360"/>
            <a:ext cx="2143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68" name="Grupo 11"/>
          <p:cNvGrpSpPr/>
          <p:nvPr/>
        </p:nvGrpSpPr>
        <p:grpSpPr>
          <a:xfrm>
            <a:off x="0" y="0"/>
            <a:ext cx="9144000" cy="1428840"/>
            <a:chOff x="0" y="0"/>
            <a:chExt cx="9144000" cy="1428840"/>
          </a:xfrm>
        </p:grpSpPr>
        <p:pic>
          <p:nvPicPr>
            <p:cNvPr id="69" name="Picture 9" descr=""/>
            <p:cNvPicPr/>
            <p:nvPr/>
          </p:nvPicPr>
          <p:blipFill>
            <a:blip r:embed="rId2"/>
            <a:stretch/>
          </p:blipFill>
          <p:spPr>
            <a:xfrm>
              <a:off x="0" y="714240"/>
              <a:ext cx="914400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Diagram 6"/>
          <p:cNvGrpSpPr/>
          <p:nvPr/>
        </p:nvGrpSpPr>
        <p:grpSpPr>
          <a:xfrm>
            <a:off x="465840" y="2522160"/>
            <a:ext cx="8213760" cy="3875400"/>
            <a:chOff x="465840" y="2522160"/>
            <a:chExt cx="8213760" cy="3875400"/>
          </a:xfrm>
        </p:grpSpPr>
        <p:sp>
          <p:nvSpPr>
            <p:cNvPr id="72" name="_s1028"/>
            <p:cNvSpPr/>
            <p:nvPr/>
          </p:nvSpPr>
          <p:spPr>
            <a:xfrm flipH="1">
              <a:off x="2515320" y="4458960"/>
              <a:ext cx="103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29"/>
            <p:cNvSpPr/>
            <p:nvPr/>
          </p:nvSpPr>
          <p:spPr>
            <a:xfrm>
              <a:off x="465840" y="3975480"/>
              <a:ext cx="2052360" cy="968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ORMA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0"/>
            <p:cNvSpPr/>
            <p:nvPr/>
          </p:nvSpPr>
          <p:spPr>
            <a:xfrm>
              <a:off x="4571280" y="4942440"/>
              <a:ext cx="0" cy="48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1"/>
            <p:cNvSpPr/>
            <p:nvPr/>
          </p:nvSpPr>
          <p:spPr>
            <a:xfrm>
              <a:off x="3546360" y="5429160"/>
              <a:ext cx="2052360" cy="968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EDAGÓGIC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2"/>
            <p:cNvSpPr/>
            <p:nvPr/>
          </p:nvSpPr>
          <p:spPr>
            <a:xfrm>
              <a:off x="5596200" y="4458960"/>
              <a:ext cx="103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3"/>
            <p:cNvSpPr/>
            <p:nvPr/>
          </p:nvSpPr>
          <p:spPr>
            <a:xfrm>
              <a:off x="6627240" y="3975480"/>
              <a:ext cx="2052360" cy="968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LECTUR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4"/>
            <p:cNvSpPr/>
            <p:nvPr/>
          </p:nvSpPr>
          <p:spPr>
            <a:xfrm flipV="1">
              <a:off x="4571280" y="3489120"/>
              <a:ext cx="0" cy="4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5"/>
            <p:cNvSpPr/>
            <p:nvPr/>
          </p:nvSpPr>
          <p:spPr>
            <a:xfrm>
              <a:off x="3546360" y="2522160"/>
              <a:ext cx="2052360" cy="968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INANCIA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6"/>
            <p:cNvSpPr/>
            <p:nvPr/>
          </p:nvSpPr>
          <p:spPr>
            <a:xfrm>
              <a:off x="3546360" y="3975480"/>
              <a:ext cx="2052360" cy="968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ORTALECIMIEN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 LAS RED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AutoShape 18"/>
            <p:cNvCxnSpPr>
              <a:stCxn id="73" idx="4"/>
              <a:endCxn id="75" idx="2"/>
            </p:cNvCxnSpPr>
            <p:nvPr/>
          </p:nvCxnSpPr>
          <p:spPr>
            <a:xfrm flipH="1" rot="16200000">
              <a:off x="2035440" y="4402440"/>
              <a:ext cx="967680" cy="20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" name="AutoShape 19"/>
            <p:cNvCxnSpPr>
              <a:stCxn id="79" idx="2"/>
              <a:endCxn id="73" idx="0"/>
            </p:cNvCxnSpPr>
            <p:nvPr/>
          </p:nvCxnSpPr>
          <p:spPr>
            <a:xfrm flipV="1" rot="10800000">
              <a:off x="1492920" y="3006720"/>
              <a:ext cx="2053080" cy="9691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" name="AutoShape 20"/>
            <p:cNvCxnSpPr>
              <a:stCxn id="79" idx="6"/>
              <a:endCxn id="77" idx="0"/>
            </p:cNvCxnSpPr>
            <p:nvPr/>
          </p:nvCxnSpPr>
          <p:spPr>
            <a:xfrm>
              <a:off x="5598720" y="3007080"/>
              <a:ext cx="2056680" cy="9691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" name="AutoShape 21"/>
            <p:cNvCxnSpPr>
              <a:stCxn id="77" idx="4"/>
              <a:endCxn id="75" idx="6"/>
            </p:cNvCxnSpPr>
            <p:nvPr/>
          </p:nvCxnSpPr>
          <p:spPr>
            <a:xfrm rot="5400000">
              <a:off x="6142680" y="4400640"/>
              <a:ext cx="967680" cy="2056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85" name="Text Box 17"/>
          <p:cNvSpPr/>
          <p:nvPr/>
        </p:nvSpPr>
        <p:spPr>
          <a:xfrm>
            <a:off x="684360" y="15638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AS POLÍTICAS DE ALFABETIZACIÓN Y EP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3"/>
          <p:cNvSpPr/>
          <p:nvPr/>
        </p:nvSpPr>
        <p:spPr>
          <a:xfrm>
            <a:off x="5725440" y="98100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MPLIACIÓN DE LA INVESTIGACIÓN, FORMACIÓN E INTERCAMBIO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operación Sur-Sur (CPLP, Mercosu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IEJ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RedLe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P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átedra EPJA UNESC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entros de Referencia y Memoria de la EP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poyo a buenas prácticas de EPJA (Medalla Paulo Frei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upo 11"/>
          <p:cNvGrpSpPr/>
          <p:nvPr/>
        </p:nvGrpSpPr>
        <p:grpSpPr>
          <a:xfrm>
            <a:off x="0" y="0"/>
            <a:ext cx="9144000" cy="981000"/>
            <a:chOff x="0" y="0"/>
            <a:chExt cx="9144000" cy="9810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0" y="490320"/>
              <a:ext cx="91440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9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Picture 8" descr=""/>
          <p:cNvPicPr/>
          <p:nvPr/>
        </p:nvPicPr>
        <p:blipFill>
          <a:blip r:embed="rId3"/>
          <a:stretch/>
        </p:blipFill>
        <p:spPr>
          <a:xfrm>
            <a:off x="6659640" y="6237360"/>
            <a:ext cx="2484360" cy="620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"/>
          <p:cNvSpPr/>
          <p:nvPr/>
        </p:nvSpPr>
        <p:spPr>
          <a:xfrm>
            <a:off x="5652720" y="54936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28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GESTIÓN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353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olíticas puestas en práctica con la coparticipación de representantes de distintos sectores que actuan en la Educación de  Personas Jóvenes y Adult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misión Nacional de Alfabetización y Educación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 Personas Jóvenes y Adult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oros de Educación de Personas Jóvenes y Adult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genda Territorial para el Desarrollo Integrado de la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lfabetización y Educación de Personas Jóvenes y Adult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upo 11"/>
          <p:cNvGrpSpPr/>
          <p:nvPr/>
        </p:nvGrpSpPr>
        <p:grpSpPr>
          <a:xfrm>
            <a:off x="0" y="0"/>
            <a:ext cx="9144000" cy="907920"/>
            <a:chOff x="0" y="0"/>
            <a:chExt cx="9144000" cy="907920"/>
          </a:xfrm>
        </p:grpSpPr>
        <p:pic>
          <p:nvPicPr>
            <p:cNvPr id="97" name="Picture 9" descr=""/>
            <p:cNvPicPr/>
            <p:nvPr/>
          </p:nvPicPr>
          <p:blipFill>
            <a:blip r:embed="rId1"/>
            <a:stretch/>
          </p:blipFill>
          <p:spPr>
            <a:xfrm>
              <a:off x="0" y="453960"/>
              <a:ext cx="914400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5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6877080" y="6165720"/>
            <a:ext cx="2266920" cy="692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9"/>
          <p:cNvSpPr/>
          <p:nvPr/>
        </p:nvSpPr>
        <p:spPr>
          <a:xfrm>
            <a:off x="5797080" y="47628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488880" y="1052280"/>
            <a:ext cx="96328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2800"/>
            </a:b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MISIÓN NACIONAL DE ALFABETIZACIÓN Y EPJA (CNAEJA)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órgano colegiado que asesora el Ministerio de Educación en la formulación e implementación de las políticas sobre educación de Personas Jóvenes y adult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16 miembros originados de instituciones educativas, tales como: Foros de los consejos de educación, movimientos sociales, entre otro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Grupo 11"/>
          <p:cNvGrpSpPr/>
          <p:nvPr/>
        </p:nvGrpSpPr>
        <p:grpSpPr>
          <a:xfrm>
            <a:off x="0" y="0"/>
            <a:ext cx="9144000" cy="865080"/>
            <a:chOff x="0" y="0"/>
            <a:chExt cx="9144000" cy="865080"/>
          </a:xfrm>
        </p:grpSpPr>
        <p:pic>
          <p:nvPicPr>
            <p:cNvPr id="104" name="Picture 9" descr=""/>
            <p:cNvPicPr/>
            <p:nvPr/>
          </p:nvPicPr>
          <p:blipFill>
            <a:blip r:embed="rId1"/>
            <a:stretch/>
          </p:blipFill>
          <p:spPr>
            <a:xfrm>
              <a:off x="0" y="432360"/>
              <a:ext cx="914400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3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6877080" y="6165720"/>
            <a:ext cx="2266920" cy="692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9"/>
          <p:cNvSpPr/>
          <p:nvPr/>
        </p:nvSpPr>
        <p:spPr>
          <a:xfrm>
            <a:off x="5725440" y="47628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28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GENDA TERRITO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88748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ropuesta de articulación conjunta territorial e intersectorial de las acciones para la educación de personas jóvenes y adultas mediante la creación de comisiones estatales, integrado por diferentes actores y organismos que actuan en la educación de personas jóvenes y adultas con el objetivo d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66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ctualizar el diagnóstico sobre las condiciones de oferta y la demanda por el estado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66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laborar y ejecutar los planes estratégicos para la expansión y el fortalecimiento de la EPJA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upo 11"/>
          <p:cNvGrpSpPr/>
          <p:nvPr/>
        </p:nvGrpSpPr>
        <p:grpSpPr>
          <a:xfrm>
            <a:off x="0" y="0"/>
            <a:ext cx="9144000" cy="865080"/>
            <a:chOff x="0" y="0"/>
            <a:chExt cx="9144000" cy="865080"/>
          </a:xfrm>
        </p:grpSpPr>
        <p:pic>
          <p:nvPicPr>
            <p:cNvPr id="111" name="Picture 9" descr=""/>
            <p:cNvPicPr/>
            <p:nvPr/>
          </p:nvPicPr>
          <p:blipFill>
            <a:blip r:embed="rId1"/>
            <a:stretch/>
          </p:blipFill>
          <p:spPr>
            <a:xfrm>
              <a:off x="0" y="432360"/>
              <a:ext cx="914400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3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Picture 8" descr=""/>
          <p:cNvPicPr/>
          <p:nvPr/>
        </p:nvPicPr>
        <p:blipFill>
          <a:blip r:embed="rId3"/>
          <a:stretch/>
        </p:blipFill>
        <p:spPr>
          <a:xfrm>
            <a:off x="6877080" y="6165720"/>
            <a:ext cx="2266920" cy="692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9"/>
          <p:cNvSpPr/>
          <p:nvPr/>
        </p:nvSpPr>
        <p:spPr>
          <a:xfrm>
            <a:off x="5725440" y="47628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w Image</cp:lastModifiedBy>
  <dcterms:modified xsi:type="dcterms:W3CDTF">2011-05-25T17:08:55Z</dcterms:modified>
  <cp:revision>202</cp:revision>
  <dc:subject/>
  <dc:title>Slide 1</dc:title>
</cp:coreProperties>
</file>