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D7B42-E44A-402A-BA01-43BCD05DE2F7}" type="datetime2">
              <a:rPr b="0" lang="es-CL" sz="1200" spc="-1" strike="noStrike">
                <a:solidFill>
                  <a:srgbClr val="000000"/>
                </a:solidFill>
                <a:latin typeface="Arial"/>
              </a:rPr>
              <a:t>jueves 30 de julio de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Reunión Regional de Seguimiento de la CONFINTEA VI  América Latina y el Carib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0D26D-C1B5-4EFE-B157-C6600F36B62C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2E267-3B9A-4386-BBBA-DD00F9E5EA64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4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9EB6A-4A6D-4AC0-B4AE-805101801BEB}" type="datetime2">
              <a:rPr b="0" lang="es-CL" sz="1200" spc="-1" strike="noStrike">
                <a:solidFill>
                  <a:srgbClr val="000000"/>
                </a:solidFill>
                <a:latin typeface="Arial"/>
              </a:rPr>
              <a:t>jueves 30 de julio de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5 Marcador de pie de página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Reunión Regional de Seguimiento de la CONFINTEA VI  América Latina y el Carib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EB3AB-01DE-4F29-A730-AE34632B2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6B2CA-2962-4BD9-ABAA-2A6AF7392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4C98D-F121-415A-A856-6423BF9ED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A7CEA-A8A0-46C8-B3EF-2DB22922D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12FED-9DC8-44E5-B05B-79CF6D202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91DA2-DBB2-4A08-A8D5-D80DE66FC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1548D-2F7C-4B95-9AAB-59CA6C19F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36DB5-C874-487A-AFB1-F29EA6BBF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8D794-3864-4C08-99D5-B9575C1A0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D5AE7-B036-4D7C-820A-335AE5DF7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E2308-2053-4764-8FC7-2FECB62ED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95DEE-37FF-4F7A-A92B-7B8766C60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DF0CE-4323-442C-AB38-14477056B2DA}" type="datetime">
              <a:rPr b="0" lang="es-CL" sz="1200" spc="-1" strike="noStrike">
                <a:solidFill>
                  <a:srgbClr val="898989"/>
                </a:solidFill>
                <a:latin typeface="Times New Roman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898989"/>
                </a:solidFill>
                <a:latin typeface="Times New Roman"/>
              </a:rPr>
              <a:t>Reunión Regional de Seguimiento de la CONFINTEA VI, Méxic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0D600-6427-478D-A1AA-AA07E852A17E}" type="slidenum">
              <a:rPr b="0" lang="es-C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9280" y="1844280"/>
            <a:ext cx="8215560" cy="280836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Calibri"/>
              </a:rPr>
              <a:t>Estrategia de seguimiento de los compromisos del Marco de Acción de Belém (MAB) </a:t>
            </a:r>
            <a:br>
              <a:rPr sz="3200"/>
            </a:br>
            <a:r>
              <a:rPr b="0" lang="es-CL" sz="3200" spc="-1" strike="noStrike">
                <a:solidFill>
                  <a:srgbClr val="ffffff"/>
                </a:solidFill>
                <a:latin typeface="Calibri"/>
              </a:rPr>
              <a:t>para  América Latina y el Caribe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1 Título"/>
          <p:cNvSpPr/>
          <p:nvPr/>
        </p:nvSpPr>
        <p:spPr>
          <a:xfrm>
            <a:off x="611280" y="5084640"/>
            <a:ext cx="8404200" cy="5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576e"/>
                </a:solidFill>
                <a:latin typeface="Arial"/>
              </a:rPr>
              <a:t>Reunión Regional de Seguimiento de CONFINTEA VI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576e"/>
                </a:solidFill>
                <a:latin typeface="Arial"/>
              </a:rPr>
              <a:t>Ciudad de México, 25-27 de Mayo de 2011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1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3 Marcador de pie de página"/>
          <p:cNvSpPr/>
          <p:nvPr/>
        </p:nvSpPr>
        <p:spPr>
          <a:xfrm>
            <a:off x="1692360" y="6308640"/>
            <a:ext cx="662472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7" descr=""/>
          <p:cNvPicPr/>
          <p:nvPr/>
        </p:nvPicPr>
        <p:blipFill>
          <a:blip r:embed="rId1"/>
          <a:stretch/>
        </p:blipFill>
        <p:spPr>
          <a:xfrm>
            <a:off x="108000" y="0"/>
            <a:ext cx="2735280" cy="12952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229600" cy="86508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Calibri"/>
              </a:rPr>
              <a:t>Matriz de trabajo para el seguimiento del MAB en América Latina y el Carib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39640" y="1341360"/>
            <a:ext cx="8229600" cy="480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324000" y="1179360"/>
          <a:ext cx="8353440" cy="5274000"/>
        </p:xfrm>
        <a:graphic>
          <a:graphicData uri="http://schemas.openxmlformats.org/drawingml/2006/table">
            <a:tbl>
              <a:tblPr/>
              <a:tblGrid>
                <a:gridCol w="3000240"/>
                <a:gridCol w="5353200"/>
              </a:tblGrid>
              <a:tr h="821520">
                <a:tc gridSpan="2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PUESTAS DE LÍNEAS DE ACCIÓN (ejemplo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add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262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rticipación, inclusión, equida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3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285840" indent="-28584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aciona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l: Desarrollo de ofertas educativas flexibles de acuerdo a las características de los participante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85840" indent="-28584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egional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: Estudio del impacto de la inclusión de niños-jóvenes (adultos sociales) en la oferta de Educación de adultos y desarrollo de estrategias para su adecuada inserción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3f2"/>
                    </a:solidFill>
                  </a:tcPr>
                </a:tc>
              </a:tr>
              <a:tr h="22262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lida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3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285840" indent="-28584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cional</a:t>
                      </a: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: Desarrollo de reforma curricular que responda a las características de la población y a los requerimientos de la sociedad actual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85840" indent="-28584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gional: </a:t>
                      </a: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laboración, con participación de distintos países, de perfiles y estándares que orienten los procesos de formación de educadores de EPJA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3f2"/>
                    </a:solidFill>
                  </a:tcPr>
                </a:tc>
              </a:tr>
            </a:tbl>
          </a:graphicData>
        </a:graphic>
      </p:graphicFrame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ffff"/>
                </a:solidFill>
                <a:latin typeface="Calibri"/>
              </a:rPr>
              <a:t>Método de trabajo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Se propone que los grupos de trabajo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009800" indent="-60984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discutan y seleccionen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las líneas de acción que les parezcan más adecuadas y/o </a:t>
            </a: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propongan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nuevas líneas de acción a nivel nacional como regional; 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009800" indent="-609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sugieran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formas de implementación de cada línea de acción seleccionada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ffff"/>
                </a:solidFill>
                <a:latin typeface="Calibri"/>
              </a:rPr>
              <a:t>Método de trabajo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700280"/>
            <a:ext cx="8229600" cy="44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400" spc="-1" strike="noStrike">
                <a:solidFill>
                  <a:srgbClr val="000000"/>
                </a:solidFill>
                <a:latin typeface="Calibri"/>
              </a:rPr>
              <a:t>Con los resultados de los grupos de trabajo, el equipo de gestión: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850"/>
              </a:spcBef>
              <a:buSzPct val="10294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400" spc="-1" strike="noStrike">
                <a:solidFill>
                  <a:srgbClr val="000000"/>
                </a:solidFill>
                <a:latin typeface="Calibri"/>
              </a:rPr>
              <a:t>Sistematizará el trabajo de los grupos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850"/>
              </a:spcBef>
              <a:buSzPct val="10294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400" spc="-1" strike="noStrike">
                <a:solidFill>
                  <a:srgbClr val="000000"/>
                </a:solidFill>
                <a:latin typeface="Calibri"/>
              </a:rPr>
              <a:t>Incorporará los aportes en la matriz.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850"/>
              </a:spcBef>
              <a:buSzPct val="10294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400" spc="-1" strike="noStrike">
                <a:solidFill>
                  <a:srgbClr val="000000"/>
                </a:solidFill>
                <a:latin typeface="Calibri"/>
              </a:rPr>
              <a:t>Propondrá una estrategia para impulsar líneas de trabajo y el seguimiento de los compromisos del MAB.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850"/>
              </a:spcBef>
              <a:buSzPct val="10294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ffff"/>
                </a:solidFill>
                <a:latin typeface="Calibri"/>
              </a:rPr>
              <a:t>Enfoque de la estrategia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alibri"/>
              </a:rPr>
              <a:t>Es una propuesta abierta, elaborada en torno a dos ideas fundamental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395360" indent="-60336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alibri"/>
              </a:rPr>
              <a:t>El MAB como expresión de un proceso liderado por los países y apoyado por organismos regionales e internacional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395360" indent="-60336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alibri"/>
              </a:rPr>
              <a:t>El MAB como oportunidad y medio para monitorear los avances en EPJA, impulsar líneas de acción coherentes con los requerimientos de los países y fomentar la cooperación a nivel regiona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ffff"/>
                </a:solidFill>
                <a:latin typeface="Calibri"/>
              </a:rPr>
              <a:t>Antecedentes y fuentes de información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539280" y="1483920"/>
            <a:ext cx="82090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alibri"/>
              </a:rPr>
              <a:t>Informes enviados por los países y documentos de la reunión regional preparatoria a CONFINTEA VI (México, 2008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alibri"/>
              </a:rPr>
              <a:t>Resultados de una consulta realizada por la OREALC a las oficinas de la UNESCO en América Latina y el Caribe, acerca del seguimiento del MAB (Agosto-Diciembre 2010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alibri"/>
              </a:rPr>
              <a:t>Información recogida desde otras fuentes: entrevistas, páginas web, periódicos en línea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La estrategia y matriz global de seguimiento de la CONFINTEA VI desarrolladas por el Instituto de la UNESCO para el Aprendizaje a lo Largo de Toda la Vida (UIL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sh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ffff"/>
                </a:solidFill>
                <a:latin typeface="Calibri"/>
              </a:rPr>
              <a:t>Contexto: heterogeneidad e inequidad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Reconocer la </a:t>
            </a:r>
            <a:r>
              <a:rPr b="1" lang="es-ES" sz="2400" spc="-1" strike="noStrike">
                <a:solidFill>
                  <a:srgbClr val="007eea"/>
                </a:solidFill>
                <a:latin typeface="Calibri"/>
              </a:rPr>
              <a:t>heterogeneidad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en todos los sentidos - la diversidad política, económica, social, cultural, lingüística, educacional - es fundamental para contextualizar las políticas y programa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alibri"/>
              </a:rPr>
              <a:t>Reconocer l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es-ES" sz="2400" spc="-1" strike="noStrike">
                <a:solidFill>
                  <a:srgbClr val="007eea"/>
                </a:solidFill>
                <a:latin typeface="Calibri"/>
              </a:rPr>
              <a:t>inequidad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en la distribución del ingreso, como una característica especialmente dramática en la regió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3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AFB5D-20B5-4F79-9D4B-16029FDE15EE}" type="datetime">
              <a:rPr b="0" lang="es-CL" sz="1200" spc="-1" strike="noStrike">
                <a:solidFill>
                  <a:srgbClr val="898989"/>
                </a:solidFill>
                <a:latin typeface="Times New Roman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4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898989"/>
                </a:solidFill>
                <a:latin typeface="Times New Roman"/>
              </a:rPr>
              <a:t>Reunión Regional de Seguimiento de la CONFINTEA VI, Méxic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8" descr=""/>
          <p:cNvPicPr/>
          <p:nvPr/>
        </p:nvPicPr>
        <p:blipFill>
          <a:blip r:embed="rId3"/>
          <a:stretch/>
        </p:blipFill>
        <p:spPr>
          <a:xfrm>
            <a:off x="2987640" y="4572000"/>
            <a:ext cx="3672000" cy="21463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2" descr=""/>
          <p:cNvPicPr/>
          <p:nvPr/>
        </p:nvPicPr>
        <p:blipFill>
          <a:blip r:embed="rId4"/>
          <a:stretch/>
        </p:blipFill>
        <p:spPr>
          <a:xfrm>
            <a:off x="6659640" y="4560840"/>
            <a:ext cx="2361960" cy="21463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3" descr=""/>
          <p:cNvPicPr/>
          <p:nvPr/>
        </p:nvPicPr>
        <p:blipFill>
          <a:blip r:embed="rId5"/>
          <a:stretch/>
        </p:blipFill>
        <p:spPr>
          <a:xfrm>
            <a:off x="0" y="4572000"/>
            <a:ext cx="2987640" cy="21463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Calibri"/>
              </a:rPr>
              <a:t>Matriz de trabajo para el seguimiento del MAB en América Latina y el Caribe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539640" y="2133720"/>
          <a:ext cx="8218440" cy="3193920"/>
        </p:xfrm>
        <a:graphic>
          <a:graphicData uri="http://schemas.openxmlformats.org/drawingml/2006/table">
            <a:tbl>
              <a:tblPr/>
              <a:tblGrid>
                <a:gridCol w="2054160"/>
                <a:gridCol w="2055960"/>
                <a:gridCol w="2054160"/>
                <a:gridCol w="2054160"/>
              </a:tblGrid>
              <a:tr h="13744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Temas y objetivos derivados del MA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ad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Requerimientos prioritarios de la regi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ad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Algunos ejemplos de avances nacionales y/o regiona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ad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Propuestas para la discusi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addc"/>
                    </a:solidFill>
                  </a:tcPr>
                </a:tc>
              </a:tr>
              <a:tr h="1819440">
                <a:tc gridSpan="4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3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86508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Calibri"/>
              </a:rPr>
              <a:t>Matriz de trabajo para el seguimiento del MAB en América Latina y el Carib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539640" y="1341360"/>
            <a:ext cx="8229600" cy="480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468360" y="1413000"/>
          <a:ext cx="8207280" cy="4741560"/>
        </p:xfrm>
        <a:graphic>
          <a:graphicData uri="http://schemas.openxmlformats.org/drawingml/2006/table">
            <a:tbl>
              <a:tblPr/>
              <a:tblGrid>
                <a:gridCol w="2925720"/>
                <a:gridCol w="5281560"/>
              </a:tblGrid>
              <a:tr h="8636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M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ad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BJETIVOS GENERA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addc"/>
                    </a:solidFill>
                  </a:tcPr>
                </a:tc>
              </a:tr>
              <a:tr h="22460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lítica y Gobernanz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gisla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líticas y Planes Naciona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stemas de Reconocimien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obernanz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3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mover un mayor compromiso político a favor de la EPJA y mejorar la gobernanza y la cooperación en alfabetización y educación de adultos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3f2"/>
                    </a:solidFill>
                  </a:tcPr>
                </a:tc>
              </a:tr>
              <a:tr h="16318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inanciamien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ast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canismos de Financiamien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umentar la inversión en alfabetización y educación de adulto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9"/>
                    </a:solidFill>
                  </a:tcPr>
                </a:tc>
              </a:tr>
            </a:tbl>
          </a:graphicData>
        </a:graphic>
      </p:graphicFrame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86508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Calibri"/>
              </a:rPr>
              <a:t>Matriz de trabajo para el seguimiento del MAB en América Latina y el Carib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539640" y="1341360"/>
            <a:ext cx="8229600" cy="480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468360" y="1179360"/>
          <a:ext cx="8280360" cy="5200920"/>
        </p:xfrm>
        <a:graphic>
          <a:graphicData uri="http://schemas.openxmlformats.org/drawingml/2006/table">
            <a:tbl>
              <a:tblPr/>
              <a:tblGrid>
                <a:gridCol w="2855880"/>
                <a:gridCol w="5424480"/>
              </a:tblGrid>
              <a:tr h="5940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M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ad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BJETIVOS GENERA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addc"/>
                    </a:solidFill>
                  </a:tcPr>
                </a:tc>
              </a:tr>
              <a:tr h="13604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rticipación, inclusión y equid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fer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rticipación e inclusi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3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mover y facilitar el acceso y la participación más equitativa en alfabetización y educación de adulto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3f2"/>
                    </a:solidFill>
                  </a:tcPr>
                </a:tc>
              </a:tr>
              <a:tr h="32464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lid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urrículo, materiales pedagógicos y entornos de aprendiza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acilitadores o educador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valuación de Aprendizaj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nitoreo y evaluación de program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segurar la calidad de la alfabetización  y la educación de adulto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9"/>
                    </a:solidFill>
                  </a:tcPr>
                </a:tc>
              </a:tr>
            </a:tbl>
          </a:graphicData>
        </a:graphic>
      </p:graphicFrame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496000" cy="86508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Calibri"/>
              </a:rPr>
              <a:t>Matriz de trabajo para el seguimiento del MAB en América Latina y el Carib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539640" y="1341360"/>
            <a:ext cx="8229600" cy="480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250920" y="1341360"/>
          <a:ext cx="8496360" cy="5032440"/>
        </p:xfrm>
        <a:graphic>
          <a:graphicData uri="http://schemas.openxmlformats.org/drawingml/2006/table">
            <a:tbl>
              <a:tblPr/>
              <a:tblGrid>
                <a:gridCol w="3052800"/>
                <a:gridCol w="5443560"/>
              </a:tblGrid>
              <a:tr h="825480">
                <a:tc gridSpan="2"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EQUERIMIENTOS PRIORITARIOS DE LA REGIÓN (ejemplos)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add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6556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lítica y gobernanz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3f2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285840" indent="-28584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ecesidad de generar una institucionalidad más sólida para EPJA, en el marco de la educación a lo largo de la vida, que incorpore ofertas formales y flexibles de estudios, que estén vinculadas a la formación laboral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3f2"/>
                    </a:solidFill>
                  </a:tcPr>
                </a:tc>
              </a:tr>
              <a:tr h="102204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inanciamien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3f2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285840" indent="-28584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finición de mecanismos que permitan aumentar el financiamiento de la educación de personas jóvenes y adulta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3f2"/>
                    </a:solidFill>
                  </a:tcPr>
                </a:tc>
              </a:tr>
              <a:tr h="107712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rticipación, inclusión y equid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3f2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285840" indent="-28584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cesidad de profundizar en la educación intercultural y de generar políticas dirigidas a jóvenes desertor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3f2"/>
                    </a:solidFill>
                  </a:tcPr>
                </a:tc>
              </a:tr>
              <a:tr h="64260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lid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3f2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285840" indent="-28584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cesidad de reformas curriculares pertinentes a la población y adecuadas a los requerimientos actuale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3f2"/>
                    </a:solidFill>
                  </a:tcPr>
                </a:tc>
              </a:tr>
            </a:tbl>
          </a:graphicData>
        </a:graphic>
      </p:graphicFrame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23640" y="333000"/>
            <a:ext cx="8661240" cy="86508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Calibri"/>
              </a:rPr>
              <a:t>Matriz de trabajo para el seguimiento del MAB en América Latina y el Carib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539640" y="1341360"/>
            <a:ext cx="8229600" cy="480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324000" y="1341360"/>
          <a:ext cx="8640720" cy="4824360"/>
        </p:xfrm>
        <a:graphic>
          <a:graphicData uri="http://schemas.openxmlformats.org/drawingml/2006/table">
            <a:tbl>
              <a:tblPr/>
              <a:tblGrid>
                <a:gridCol w="3025800"/>
                <a:gridCol w="5614920"/>
              </a:tblGrid>
              <a:tr h="457560">
                <a:tc gridSpan="2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PUESTAS DE LÍNEAS DE ACCIÓN (ejemplo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add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262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lítica y gobernanza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3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285840" indent="-28584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aciona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l: Inclusión en la Constitución política del derecho a la educación a lo largo de toda la vida y el deber del Estado de garantizarlo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85840" indent="-28584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egional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: Recolección, análisis y difusión de modelos de institucionalización de la EPJA que impulsen el aprendizaje a la largo de la vida y posibiliten trayectorias educativa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3f2"/>
                    </a:solidFill>
                  </a:tcPr>
                </a:tc>
              </a:tr>
              <a:tr h="21405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inanciamien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3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285840" indent="-28584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cional</a:t>
                      </a: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: Inclusión en el presupuesto nacional de referencia explícita a los fondos dedicados a la EPJA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85840" indent="-28584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gional: </a:t>
                      </a: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alización de un estudio para estimar la inversión necesaria para desarrollar diferentes ofertas de calidad en EPJA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3f2"/>
                    </a:solidFill>
                  </a:tcPr>
                </a:tc>
              </a:tr>
            </a:tbl>
          </a:graphicData>
        </a:graphic>
      </p:graphicFrame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9T22:46:52Z</dcterms:created>
  <dc:creator>Isabel Infante</dc:creator>
  <dc:description/>
  <dc:language>en-US</dc:language>
  <cp:lastModifiedBy>mele</cp:lastModifiedBy>
  <dcterms:modified xsi:type="dcterms:W3CDTF">2011-05-25T14:05:11Z</dcterms:modified>
  <cp:revision>119</cp:revision>
  <dc:subject/>
  <dc:title>Diapositiva 1</dc:title>
</cp:coreProperties>
</file>