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D985-7C11-4F35-822C-A3E4A3CF9D25}" type="datetime2">
              <a:rPr b="0" lang="es-CL" sz="1200" spc="-1" strike="noStrike">
                <a:solidFill>
                  <a:srgbClr val="000000"/>
                </a:solidFill>
                <a:latin typeface="Arial"/>
              </a:rPr>
              <a:t>martes 28 de julio de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unión Regional de Seguimiento de la CONFINTEA VI  América Latina y el Ca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BE50-5460-48AE-BFB3-3EF7C9BF02E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1876-30DE-4C18-8FBE-89409C4D8DD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4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A36B-B7B7-428A-8E69-A76A47E8079C}" type="datetime2">
              <a:rPr b="0" lang="es-CL" sz="1200" spc="-1" strike="noStrike">
                <a:solidFill>
                  <a:srgbClr val="000000"/>
                </a:solidFill>
                <a:latin typeface="Arial"/>
              </a:rPr>
              <a:t>martes 28 de julio de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5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unión Regional de Seguimiento de la CONFINTEA VI  América Latina y el Ca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59F-127A-4773-9884-5DD4538D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73F-02FC-46F3-A465-310EBB9A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940-1125-4C99-AA92-EA84D992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D69-3F9A-4904-B529-C0D43A58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6E6-9239-4636-8276-BD87816C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2A1-C161-4CC2-A608-1C288CFE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59A-9224-438A-BC0D-6DAD0F30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6FD-797F-4FFD-BCE1-934E9B58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031-2844-4636-B22E-4748E363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B0BB-F5D8-4C16-850B-FB686548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04F-0355-42AC-9EEB-484C9A71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C51-B2C1-48D4-8740-B0F289AD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1376-7D42-4BF2-AE64-43ADFF6FC091}" type="datetime">
              <a:rPr b="0" lang="es-CL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Times New Roman"/>
              </a:rPr>
              <a:t>Reunión Regional de Seguimiento de la CONFINTEA VI, Mé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D1F7-EA1A-48F9-BBCB-1C3316D3FC40}" type="slidenum">
              <a:rPr b="0" lang="es-C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844280"/>
            <a:ext cx="8215560" cy="28083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Estrategia de seguimiento de los compromisos del Marco de Acción de Belém (MAB) </a:t>
            </a:r>
            <a:br>
              <a:rPr sz="3200"/>
            </a:b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ara  América Latina y el Carib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1 Título"/>
          <p:cNvSpPr/>
          <p:nvPr/>
        </p:nvSpPr>
        <p:spPr>
          <a:xfrm>
            <a:off x="611280" y="5084640"/>
            <a:ext cx="8404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576e"/>
                </a:solidFill>
                <a:latin typeface="Arial"/>
              </a:rPr>
              <a:t>Reunión Regional de Seguimiento de CONFINTEA V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576e"/>
                </a:solidFill>
                <a:latin typeface="Arial"/>
              </a:rPr>
              <a:t>Ciudad de México, 25-27 de Mayo de 201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3 Marcador de pie de página"/>
          <p:cNvSpPr/>
          <p:nvPr/>
        </p:nvSpPr>
        <p:spPr>
          <a:xfrm>
            <a:off x="1692360" y="6308640"/>
            <a:ext cx="6624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108000" y="0"/>
            <a:ext cx="2735280" cy="129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atriz de trabajo para el seguimiento del MAB en América Latina y el Carib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4000" y="1179360"/>
          <a:ext cx="8353440" cy="5274000"/>
        </p:xfrm>
        <a:graphic>
          <a:graphicData uri="http://schemas.openxmlformats.org/drawingml/2006/table">
            <a:tbl>
              <a:tblPr/>
              <a:tblGrid>
                <a:gridCol w="3000240"/>
                <a:gridCol w="5353200"/>
              </a:tblGrid>
              <a:tr h="82152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UESTAS DE LÍNEAS DE ACCIÓN (ejempl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6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, inclusión, equ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ciona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: Desarrollo de ofertas educativas flexibles de acuerdo a las características de los participa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on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Estudio del impacto de la inclusión de niños-jóvenes (adultos sociales) en la oferta de Educación de adultos y desarrollo de estrategias para su adecuada inser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  <a:tr h="2226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cional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Desarrollo de reforma curricular que responda a las características de la población y a los requerimientos de la sociedad actua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: 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ción, con participación de distintos países, de perfiles y estándares que orienten los procesos de formación de educadores de EPJ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alibri"/>
              </a:rPr>
              <a:t>Método de trabajo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 propone que los grupos de trabaj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iscutan y seleccione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las líneas de acción que les parezcan más adecuadas y/o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roponga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uevas líneas de acción a nivel nacional como regional; 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ugiera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formas de implementación de cada línea de acción seleccion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alibri"/>
              </a:rPr>
              <a:t>Método de trabajo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Calibri"/>
              </a:rPr>
              <a:t>Con los resultados de los grupos de trabajo, el equipo de gestión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Calibri"/>
              </a:rPr>
              <a:t>Sistematizará el trabajo de los grupo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Calibri"/>
              </a:rPr>
              <a:t>Incorporará los aportes en la matriz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Calibri"/>
              </a:rPr>
              <a:t>Propondrá una estrategia para impulsar líneas de trabajo y el seguimiento de los compromisos del MAB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SzPct val="1029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alibri"/>
              </a:rPr>
              <a:t>Enfoque de la estrategi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s una propuesta abierta, elaborada en torno a dos ideas fundamenta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5360" indent="-60336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l MAB como expresión de un proceso liderado por los países y apoyado por organismos regionales e internacion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5360" indent="-6033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l MAB como oportunidad y medio para monitorear los avances en EPJA, impulsar líneas de acción coherentes con los requerimientos de los países y fomentar la cooperación a nivel regio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alibri"/>
              </a:rPr>
              <a:t>Antecedentes y fuentes de informació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Informes enviados por los países y documentos de la reunión regional preparatoria a CONFINTEA VI (México, 200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Resultados de una consulta realizada por la OREALC a las oficinas de la UNESCO en América Latina y el Caribe, acerca del seguimiento del MAB (Agosto-Diciembre 201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Información recogida desde otras fuentes: entrevistas, páginas web, periódicos en líne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estrategia y matriz global de seguimiento de la CONFINTEA VI desarrolladas por el Instituto de la UNESCO para el Aprendizaje a lo Largo de Toda la Vida (UIL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Calibri"/>
              </a:rPr>
              <a:t>Contexto: heterogeneidad e inequida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la </a:t>
            </a:r>
            <a:r>
              <a:rPr b="1" lang="es-ES" sz="2400" spc="-1" strike="noStrike">
                <a:solidFill>
                  <a:srgbClr val="007eea"/>
                </a:solidFill>
                <a:latin typeface="Calibri"/>
              </a:rPr>
              <a:t>heterogeneidad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en todos los sentidos - la diversidad política, económica, social, cultural, lingüística, educacional - es fundamental para contextualizar las políticas y program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Reconocer l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s-ES" sz="2400" spc="-1" strike="noStrike">
                <a:solidFill>
                  <a:srgbClr val="007eea"/>
                </a:solidFill>
                <a:latin typeface="Calibri"/>
              </a:rPr>
              <a:t>inequidad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la distribución del ingreso, como una característica especialmente dramática en la reg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0715-A96B-4137-9DDE-880B200B8C50}" type="datetime">
              <a:rPr b="0" lang="es-CL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Times New Roman"/>
              </a:rPr>
              <a:t>Reunión Regional de Seguimiento de la CONFINTEA VI, Mé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3"/>
          <a:stretch/>
        </p:blipFill>
        <p:spPr>
          <a:xfrm>
            <a:off x="2987640" y="4572000"/>
            <a:ext cx="3672000" cy="2146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/>
          <p:cNvPicPr/>
          <p:nvPr/>
        </p:nvPicPr>
        <p:blipFill>
          <a:blip r:embed="rId4"/>
          <a:stretch/>
        </p:blipFill>
        <p:spPr>
          <a:xfrm>
            <a:off x="6659640" y="4560840"/>
            <a:ext cx="2361960" cy="2146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5"/>
          <a:stretch/>
        </p:blipFill>
        <p:spPr>
          <a:xfrm>
            <a:off x="0" y="4572000"/>
            <a:ext cx="2987640" cy="214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Matriz de trabajo para el seguimiento del MAB en América Latina y el Carib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2133720"/>
          <a:ext cx="8218440" cy="319392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1374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emas y objetivos derivados del M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Requerimientos prioritarios de la reg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lgunos ejemplos de avances nacionales y/o reg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ropuestas para la discu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181944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atriz de trabajo para el seguimiento del MAB en América Latina y el Carib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1413000"/>
          <a:ext cx="8207280" cy="4741560"/>
        </p:xfrm>
        <a:graphic>
          <a:graphicData uri="http://schemas.openxmlformats.org/drawingml/2006/table">
            <a:tbl>
              <a:tblPr/>
              <a:tblGrid>
                <a:gridCol w="2925720"/>
                <a:gridCol w="528156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TIVOS GENE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22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 y Gobern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is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s y Planes Nacion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s de Reconoc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bern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un mayor compromiso político a favor de la EPJA y mejorar la gobernanza y la cooperación en alfabetización y educación de adulto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  <a:tr h="16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anismos de Financi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mentar la inversión en alfabetización y educación de adult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atriz de trabajo para el seguimiento del MAB en América Latina y el Carib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1179360"/>
          <a:ext cx="8280360" cy="5200920"/>
        </p:xfrm>
        <a:graphic>
          <a:graphicData uri="http://schemas.openxmlformats.org/drawingml/2006/table">
            <a:tbl>
              <a:tblPr/>
              <a:tblGrid>
                <a:gridCol w="2855880"/>
                <a:gridCol w="5424480"/>
              </a:tblGrid>
              <a:tr h="594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TIVOS GENE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</a:tr>
              <a:tr h="136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, inclusión y equ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 e inclu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ver y facilitar el acceso y la participación más equitativa en alfabetización y educación de adul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  <a:tr h="324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ículo, materiales pedagógicos y entornos de aprendiz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dores o educ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ción de Aprendiz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eo y evaluación de progra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gurar la calidad de la alfabetización  y la educación de adul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atriz de trabajo para el seguimiento del MAB en América Latina y el Carib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0920" y="1341360"/>
          <a:ext cx="8496360" cy="5032440"/>
        </p:xfrm>
        <a:graphic>
          <a:graphicData uri="http://schemas.openxmlformats.org/drawingml/2006/table">
            <a:tbl>
              <a:tblPr/>
              <a:tblGrid>
                <a:gridCol w="3052800"/>
                <a:gridCol w="5443560"/>
              </a:tblGrid>
              <a:tr h="82548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QUERIMIENTOS PRIORITARIOS DE LA REGIÓN (ejemplos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 y gobernan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cesidad de generar una institucionalidad más sólida para EPJA, en el marco de la educación a lo largo de la vida, que incorpore ofertas formales y flexibles de estudios, que estén vinculadas a la formación labor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  <a:tr h="10220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ción de mecanismos que permitan aumentar el financiamiento de la educación de personas jóvenes y adult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  <a:tr h="10771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, inclusión y equ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cesidad de profundizar en la educación intercultural y de generar políticas dirigidas a jóvenes deser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cesidad de reformas curriculares pertinentes a la población y adecuadas a los requerimientos actu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61240" cy="86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atriz de trabajo para el seguimiento del MAB en América Latina y el Carib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640" y="1341360"/>
            <a:ext cx="822960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4000" y="1341360"/>
          <a:ext cx="8640720" cy="4824360"/>
        </p:xfrm>
        <a:graphic>
          <a:graphicData uri="http://schemas.openxmlformats.org/drawingml/2006/table">
            <a:tbl>
              <a:tblPr/>
              <a:tblGrid>
                <a:gridCol w="3025800"/>
                <a:gridCol w="5614920"/>
              </a:tblGrid>
              <a:tr h="45756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UESTAS DE LÍNEAS DE ACCIÓN (ejempl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d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6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 y gobernanz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ciona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: Inclusión en la Constitución política del derecho a la educación a lo largo de toda la vida y el deber del Estado de garantizarl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on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Recolección, análisis y difusión de modelos de institucionalización de la EPJA que impulsen el aprendizaje a la largo de la vida y posibiliten trayectorias educativ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  <a:tr h="2140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cional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Inclusión en el presupuesto nacional de referencia explícita a los fondos dedicados a la EPJ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: 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ión de un estudio para estimar la inversión necesaria para desarrollar diferentes ofertas de calidad en EPJ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f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22:46:52Z</dcterms:created>
  <dc:creator>Isabel Infante</dc:creator>
  <dc:description/>
  <dc:language>en-US</dc:language>
  <cp:lastModifiedBy>mele</cp:lastModifiedBy>
  <dcterms:modified xsi:type="dcterms:W3CDTF">2011-05-25T14:05:11Z</dcterms:modified>
  <cp:revision>119</cp:revision>
  <dc:subject/>
  <dc:title>Diapositiva 1</dc:title>
</cp:coreProperties>
</file>