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A4B9-0BF0-413D-B9B0-119B821A464F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martes 28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C7D-E31E-4BC8-9D43-4DF338E5FB9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EE89-5808-4ED7-8CEA-060AF438372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21CF-8CBF-4D1E-9887-93B9B673C3B1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martes 28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5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BCEF-66E2-4866-B250-10E8507B3A8E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martes 28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61B0-A801-40E5-A843-A4CD4A1525D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850-1556-4078-9803-0AB2F8AF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3A6-F129-4A46-95F4-4FEE5B1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2E4-FF34-42D7-B3CD-6B23390E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820-7B18-420B-BA83-0665CE7B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71E-844B-4667-A0FF-0963F05B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74F-2ECC-444A-B0AE-7A4CFAC9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B93-1C4F-437F-8FB7-2BFC6DEC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273-AC0D-4FE2-9D4E-7C50E0FE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B85-7B42-4A9F-B2D4-886449E7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BE5-4997-4CBC-985E-8AB076E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57A-E970-4744-BA64-C954116C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19B-CCCD-4FCD-8C2A-6067CCA5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F8CA-9D77-4825-A5C6-E36E62F84106}" type="datetime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Reunión Regional de Seguimiento de la CONFINTEA VI, Mé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D78C-0CF7-4ED7-B389-7ABFB2F74AD7}" type="slidenum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215560" cy="28083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Líneas de Acción para el seguimiento del</a:t>
            </a: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  Marco de Acción de Belém (MAB) </a:t>
            </a: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a  América Latina y el Carib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1 Título"/>
          <p:cNvSpPr/>
          <p:nvPr/>
        </p:nvSpPr>
        <p:spPr>
          <a:xfrm>
            <a:off x="611280" y="5084640"/>
            <a:ext cx="8404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576e"/>
                </a:solidFill>
                <a:latin typeface="Arial"/>
              </a:rPr>
              <a:t>Reunión Regional de Seguimiento de CONFINTEA V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576e"/>
                </a:solidFill>
                <a:latin typeface="Arial"/>
              </a:rPr>
              <a:t>Ciudad de México, 25-27 de Mayo de 201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60436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FINANCIAMIEN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1125360"/>
          <a:ext cx="8604360" cy="5616720"/>
        </p:xfrm>
        <a:graphic>
          <a:graphicData uri="http://schemas.openxmlformats.org/drawingml/2006/table">
            <a:tbl>
              <a:tblPr/>
              <a:tblGrid>
                <a:gridCol w="2116080"/>
                <a:gridCol w="6488280"/>
              </a:tblGrid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87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ANISMOS DE 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ción de convenios entre el gobierno e instituciones privadas para sustentar la implementación y el financiamiento de la EPJ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eño de incentivos a gobiernos municipales y empresas para que inviertan en EPJ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álisis y revisión de las estrategias de elaboración presupuestaria en educación y de los criterios de asignación de recursos y  sus lógicas distributivas para garantizar la educación básica a las poblaciones más vulnerab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20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FINANCIAMIEN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197000"/>
          <a:ext cx="8353440" cy="5338800"/>
        </p:xfrm>
        <a:graphic>
          <a:graphicData uri="http://schemas.openxmlformats.org/drawingml/2006/table">
            <a:tbl>
              <a:tblPr/>
              <a:tblGrid>
                <a:gridCol w="2448000"/>
                <a:gridCol w="5905440"/>
              </a:tblGrid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82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CANISMOS DE 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ción de  mecanismos políticos y técnicos eficaces para el financiamiento de la EPJA, incluyendo reuniones con quienes toman las decisiones presupuestari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alación de un Fondo Solidario Regional para apoyar el acceso a la educación de las personas con mayores desventajas y necesidades, articulando las iniciativas de distintas organizacione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1676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TICIPACION, INCLUSIÓN Y EQU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1197000"/>
          <a:ext cx="8856360" cy="5614920"/>
        </p:xfrm>
        <a:graphic>
          <a:graphicData uri="http://schemas.openxmlformats.org/drawingml/2006/table">
            <a:tbl>
              <a:tblPr/>
              <a:tblGrid>
                <a:gridCol w="2178000"/>
                <a:gridCol w="6678360"/>
              </a:tblGrid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170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FER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ofertas flexibles, de acuerdo a las características de los particip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pliación de las ofertas destinadas a los jóvenes y adultos recién alfabetizados para avanzar en sus niveles de alfabetis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stematización de los procesos y resultados de experiencias de flexibilización de la oferta, en vistas a mejorar su diseño e implementación, considerando las especificidades de contexto y características de la població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42328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TICIPACION, INCLUSIÓN Y EQU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268280"/>
          <a:ext cx="8567640" cy="5040360"/>
        </p:xfrm>
        <a:graphic>
          <a:graphicData uri="http://schemas.openxmlformats.org/drawingml/2006/table">
            <a:tbl>
              <a:tblPr/>
              <a:tblGrid>
                <a:gridCol w="2106720"/>
                <a:gridCol w="6460920"/>
              </a:tblGrid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10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CIPACIÓN E INCLU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eño, implementación y evaluación de un sistema de información para registrar, de manera desagregada, la participación en los programas de alfabetización y educación de adul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, implementación y evaluación  de programas inclusivos que acojan grupos con distintas necesidades de aprendizaje: jóvenes desertores, mujeres/hombres, indígenas, población en contexto de encierro y población rur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TICIPACION, INCLUSIÓN Y EQU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125360"/>
          <a:ext cx="8856720" cy="5608800"/>
        </p:xfrm>
        <a:graphic>
          <a:graphicData uri="http://schemas.openxmlformats.org/drawingml/2006/table">
            <a:tbl>
              <a:tblPr/>
              <a:tblGrid>
                <a:gridCol w="2178000"/>
                <a:gridCol w="6678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24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CIPACIÓN E INCLU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mento de la cooperación entre los países, en colaboración con el UIS con el fin de apoyar el diseño de sistemas de información para la EPJA y generar  estadísticas comparab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antamiento de aspectos claves y criterios comunes para el desarrollo de ofertas pertinentes de alfabetización y educación de adultos en contextos de ruralidad e interculturalidad, así como de discriminación hacia las mujer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udio del impacto de la inclusión de niños-jóvenes (adultos sociales) en la oferta de Educación de Adultos y desarrollo de estrategias para su adecuada inserción educacion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lización de un estudio sobre los factores que influyen en la participación y permanencia de las personas en la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42160" cy="72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50920" y="1052640"/>
          <a:ext cx="8713800" cy="5344920"/>
        </p:xfrm>
        <a:graphic>
          <a:graphicData uri="http://schemas.openxmlformats.org/drawingml/2006/table">
            <a:tbl>
              <a:tblPr/>
              <a:tblGrid>
                <a:gridCol w="2143080"/>
                <a:gridCol w="6570720"/>
              </a:tblGrid>
              <a:tr h="58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75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URRÍCULO, MATERIAL PEDAGÓGICO Y ENTORNOS DE APRENDIZ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currículos contextualizados que respondan a las  necesidades de  poblaciones diversas y a los requerimientos laborales y soc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visión periódica, con participación de los educandos, de materiales pedagógicos para mejorar su calidad y pertin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tilización y/o creación de espacios públicos/centros comunitarios, equipados con recursos educativos pertine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aboración de  criterios orientadores para mejorar la calidad de currículum y del material pedagógico, considerando la diversidad de requerimientos y necesidades de las poblacion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ción y promoción de experiencias que hayan conseguido  la generación de ambientes letrados y metodologías que fomenten el uso de la lectura y la escritura en diferentes contex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52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160640"/>
          <a:ext cx="8786880" cy="5697360"/>
        </p:xfrm>
        <a:graphic>
          <a:graphicData uri="http://schemas.openxmlformats.org/drawingml/2006/table">
            <a:tbl>
              <a:tblPr/>
              <a:tblGrid>
                <a:gridCol w="2143080"/>
                <a:gridCol w="6643800"/>
              </a:tblGrid>
              <a:tr h="48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21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ADORES O EDU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perfiles profesionales para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s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cargados de programas,  educadores y facilitadores de EPJ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,  implementación y evaluación de procesos de formación para los 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cargados de programas,  educadores y facilitadores de EPJA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y promoción de programas de educación superior que respondan a los nuevos perfiles para la formación de los profesionales de la EPJ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ción de mejoras de condiciones laborales de los educado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0920" y="1197000"/>
          <a:ext cx="8713800" cy="5040360"/>
        </p:xfrm>
        <a:graphic>
          <a:graphicData uri="http://schemas.openxmlformats.org/drawingml/2006/table">
            <a:tbl>
              <a:tblPr/>
              <a:tblGrid>
                <a:gridCol w="2143080"/>
                <a:gridCol w="65707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40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ADORES O EDUCADO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aboración, con participación de distintos países, de perfiles y criterios que orienten las propuestas y los procesos de formación de los educadores de adultos, incluidos los voluntarios y maestros popula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artir de las experiencias desarrolladas en distintos países, elaboración de una serie de materiales pedagógicos destinados a la formación de educadores y facilitadores de alfabetización y EPJA, considerando los distintos ámbitos de a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ción de la profesionalización de los educadores de EPJA en relación con centros de educación superio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16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197000"/>
          <a:ext cx="8870760" cy="5256360"/>
        </p:xfrm>
        <a:graphic>
          <a:graphicData uri="http://schemas.openxmlformats.org/drawingml/2006/table">
            <a:tbl>
              <a:tblPr/>
              <a:tblGrid>
                <a:gridCol w="2181240"/>
                <a:gridCol w="6689520"/>
              </a:tblGrid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230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VALUACIÓN DE APRENDIZAJ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eño de metodologías e instrumentos que consideren como componente integral la evaluación de aprendizajes de las personas que participan en los programas de alfabetización y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cación y descripción de las competencias que requieren las personas para mejorar sus condiciones de vida y participar activamente en su comunid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eño de modelos e instrumentos que permitan evaluar las competenci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197000"/>
          <a:ext cx="8713800" cy="5111640"/>
        </p:xfrm>
        <a:graphic>
          <a:graphicData uri="http://schemas.openxmlformats.org/drawingml/2006/table">
            <a:tbl>
              <a:tblPr/>
              <a:tblGrid>
                <a:gridCol w="2143080"/>
                <a:gridCol w="6570720"/>
              </a:tblGrid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667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ITOREO Y EVALUACION DE PR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lusión del monitoreo y la evaluación como componente integral en el diseño de los programa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estudios de impacto en programas de alfabetización y educación de adul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moción de una cultura de evaluación para mejorar continuamente la calidad de la oferta educativa en la EP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Líneas de acción: síntesis del trabajo realizad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íneas de acción enriquecidas: resultado del trabajo realizado por los grupos en relación a la propuesta de matriz presentada en la reun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El equipo de gestión de la matriz incorporó los aportes de los tres grupos, buscando los consens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ALIDA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50920" y="1125360"/>
          <a:ext cx="8713800" cy="5108760"/>
        </p:xfrm>
        <a:graphic>
          <a:graphicData uri="http://schemas.openxmlformats.org/drawingml/2006/table">
            <a:tbl>
              <a:tblPr/>
              <a:tblGrid>
                <a:gridCol w="2143080"/>
                <a:gridCol w="6570720"/>
              </a:tblGrid>
              <a:tr h="443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66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NITOREO Y EVALUACION DE PR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talecimiento de la capacidad de investigación en la EPJA a través del establecimiento de una red de instituciones especializad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ción y difusión de estudios sobre diferentes aspectos de la alfabetización y educación de adultos, entre otro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rategias de aprendizaje de los adultos en contextos culturales específicos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lación entre estrategias de aprendizaje y formación docent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rategias para una mayor inclusión de personas jóvenes y adultas en procesos de aprendizaje en distintos contex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Próximos pas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n total se propusieron 55 líneas de ac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6 na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9 reg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on líneas de acción que deberán dar paso a proyectos concretos, lo que implica establecer prioridades y estrategias de cooper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852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176480"/>
          <a:ext cx="9036000" cy="5655960"/>
        </p:xfrm>
        <a:graphic>
          <a:graphicData uri="http://schemas.openxmlformats.org/drawingml/2006/table">
            <a:tbl>
              <a:tblPr/>
              <a:tblGrid>
                <a:gridCol w="2259000"/>
                <a:gridCol w="6777000"/>
              </a:tblGrid>
              <a:tr h="44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21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lusión de la educación de adultos y de sus diversas modalidades en la ley de educación y mecanismos de monitoreo de cumplimiento de la le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un estudio comparativo sobre los avances de los países de América Latina y el Caribe, en materia normativa en educación de personas jóvenes y adult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álisis y difusión de modelos de institucionalidad de la EPJA que impulsen el aprendizaje a lo largo de la vida y posibiliten diferentes trayectorias educativ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45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125360"/>
          <a:ext cx="8423280" cy="5448600"/>
        </p:xfrm>
        <a:graphic>
          <a:graphicData uri="http://schemas.openxmlformats.org/drawingml/2006/table">
            <a:tbl>
              <a:tblPr/>
              <a:tblGrid>
                <a:gridCol w="2016000"/>
                <a:gridCol w="6407280"/>
              </a:tblGrid>
              <a:tr h="47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9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y pla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un plan estratégico de EPJA que articule formación general, capacitación laboral, educación para la ciudadanía, movilización comunitaria e inclusión social en la perspectiva del aprendizaje a lo largo de la v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gración de componentes de alfabetización y educación de adultos en programas nacionales de desarrollo vinculados con la salud, extensión agraria, medio ambiente, etc., e integrados con los ODM y la E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partir de experiencias nacionales y regionales, diseño e implementación de estrategias de capacitación destinadas a directivos de EPJA y tomadores de decisión de los Ministerios de Educación, para instalar el concepto de aprendizaje a lo largo de la vida e impulsar políticas basadas en este enfoque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197000"/>
          <a:ext cx="8280360" cy="5089680"/>
        </p:xfrm>
        <a:graphic>
          <a:graphicData uri="http://schemas.openxmlformats.org/drawingml/2006/table">
            <a:tbl>
              <a:tblPr/>
              <a:tblGrid>
                <a:gridCol w="2124000"/>
                <a:gridCol w="6156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723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s de reconoci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lementación de sistemas de reconocimiento, validación y acreditación de todas las formas de aprendizaje, lo que incluye el desarrollo gradual de diferentes componentes, como: marcos de referencia, mecanismos  e instrumentos de evaluación de aprendizajes, entre otro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052640"/>
          <a:ext cx="8351640" cy="5545080"/>
        </p:xfrm>
        <a:graphic>
          <a:graphicData uri="http://schemas.openxmlformats.org/drawingml/2006/table">
            <a:tbl>
              <a:tblPr/>
              <a:tblGrid>
                <a:gridCol w="2124000"/>
                <a:gridCol w="6227640"/>
              </a:tblGrid>
              <a:tr h="38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16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s de reconoc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álisis de los sistemas de reconocimiento y  certificación  de aprendizajes previos formales, no  formales e informales, desarrollados en AL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aboración y difusión de orientaciones y criterios para apoyar la implementación de estructuras y mecanismos de reconocimiento y acreditación de aprendizajes, en vistas a una mejor inserción laboral y participación ciudad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sarrollo de marcos de equivalencia para el reconocimiento de formación general y laboral que facilite la movilidad de las personas entre los países de la regió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ción de mecanismos de valoración y reconocimiento de los saberes de las culturas indígena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97000"/>
          <a:ext cx="8424720" cy="5456160"/>
        </p:xfrm>
        <a:graphic>
          <a:graphicData uri="http://schemas.openxmlformats.org/drawingml/2006/table">
            <a:tbl>
              <a:tblPr/>
              <a:tblGrid>
                <a:gridCol w="2124000"/>
                <a:gridCol w="6300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09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ERN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alación de un Comité Nacional de Coordinación para la planificación y evaluación de políticas de  EPJA, con la participación de todos los actores, incluyendo a los educandos/particip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ción de mecanismos y acuerdos de cooperación dentro y entre el ministerio de educación,  otros ministerios e instituciones de la sociedad civil para el desarrollo de ofertas de alfabetización y educación de adul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OLITICA Y GOBERNANZ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058760"/>
          <a:ext cx="8496000" cy="5761080"/>
        </p:xfrm>
        <a:graphic>
          <a:graphicData uri="http://schemas.openxmlformats.org/drawingml/2006/table">
            <a:tbl>
              <a:tblPr/>
              <a:tblGrid>
                <a:gridCol w="2124000"/>
                <a:gridCol w="6372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5394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ERN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ción y promoción de experiencias exitosas de participación activa de los distintos actores y de articulación intersectorial e interinstitucional, en  programas de alfabetización y EPJ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neración de alianzas con distintos foros de parlamentarios a nivel regional y/o subregional e inclusión de la EPJA como tema en los organismos regionales e internaciona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itución de un grupo de especialistas  para fortalecer y articular la experiencia acumulada en el desarrollo de políticas y programas de aprendizaje a lo largo de la vid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alización de un mapeo de las necesidades y posibilidades de cooperación regional en materia de EPJA,  especialmente para apoyar procesos emerg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8996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FINANCIAMIEN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4000" y="1197000"/>
          <a:ext cx="8640720" cy="5222880"/>
        </p:xfrm>
        <a:graphic>
          <a:graphicData uri="http://schemas.openxmlformats.org/drawingml/2006/table">
            <a:tbl>
              <a:tblPr/>
              <a:tblGrid>
                <a:gridCol w="2124000"/>
                <a:gridCol w="6516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ÍNEAS DE AC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485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Na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clusión en el presupuesto nacional de una referencia explícita a los fondos dedicados a la EPJA, que especifique los ministerios de proced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ificación de actividades para sensibilizar acerca de la importancia de invertir en EPJA y el impacto positivo de esta inversi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ivel 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rucción de un marco que defina los principales componentes del gasto público en alfabetización y EPJA, con la participación de expertos e instituciones nacionales, en colaboración con el Instituto de Estadísticas de la UNESCO (UIS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timación de la inversión necesaria para desarrollar distintas ofertas de calidad en EPJ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2:46:52Z</dcterms:created>
  <dc:creator>Isabel Infante</dc:creator>
  <dc:description/>
  <dc:language>en-US</dc:language>
  <cp:lastModifiedBy>mele</cp:lastModifiedBy>
  <dcterms:modified xsi:type="dcterms:W3CDTF">2011-05-27T14:29:00Z</dcterms:modified>
  <cp:revision>141</cp:revision>
  <dc:subject/>
  <dc:title>Diapositiva 1</dc:title>
</cp:coreProperties>
</file>