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5DA7-0D11-4936-A108-1BB2BCC89DB8}" type="datetime2">
              <a:rPr b="0" lang="es-CL" sz="1200" spc="-1" strike="noStrike">
                <a:solidFill>
                  <a:srgbClr val="000000"/>
                </a:solidFill>
                <a:latin typeface="Arial"/>
              </a:rPr>
              <a:t>jueves 30 de julio de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unión Regional de Seguimiento de la CONFINTEA VI  América Latina y el Ca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E9DD-3BF5-4378-8C9E-4DD8EA9E132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FADD-F21D-44BD-8647-B6F0D274B9A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4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60A5-5608-4E6E-85F8-96749F941416}" type="datetime2">
              <a:rPr b="0" lang="es-CL" sz="1200" spc="-1" strike="noStrike">
                <a:solidFill>
                  <a:srgbClr val="000000"/>
                </a:solidFill>
                <a:latin typeface="Arial"/>
              </a:rPr>
              <a:t>jueves 30 de julio de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5 Marcador de pie de página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unión Regional de Seguimiento de la CONFINTEA VI  América Latina y el Ca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F18D-2BBD-4DF0-9E4D-DD6E8B1C7495}" type="datetime2">
              <a:rPr b="0" lang="es-CL" sz="1200" spc="-1" strike="noStrike">
                <a:solidFill>
                  <a:srgbClr val="000000"/>
                </a:solidFill>
                <a:latin typeface="Arial"/>
              </a:rPr>
              <a:t>jueves 30 de julio de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4 Marcador de pie de página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unión Regional de Seguimiento de la CONFINTEA VI  América Latina y el Ca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5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CC5C-296B-41D7-8B60-2A906272880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8BAE-E443-4E6C-8266-D9167E4C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7C9A-30E4-4214-AC26-1EE77297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61DC-5C72-4F94-9AF7-514363F6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873A-599D-4910-AF89-CDCEE645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8FCB-CD5F-4EEF-8832-56653CB1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07FC-DC01-420B-961C-F366B764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493D-FCB5-4DEE-B463-7419FF93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E3A0-0421-4471-BFDB-62030E9D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B1B6-76EA-4C31-8E73-94218A8B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6A55-010A-47E1-80CB-53375F17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9A95-EE2F-4276-A5A9-BBC8C9AB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A8AF-C1C3-4D9A-B9A1-78F4CF96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595D-5C55-4367-8353-8C02A72A099F}" type="datetime">
              <a:rPr b="0" lang="es-CL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Times New Roman"/>
              </a:rPr>
              <a:t>Reunión Regional de Seguimiento de la CONFINTEA VI, Méx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AFC9-2DF5-4E01-9482-B3E2BBD8FD61}" type="slidenum">
              <a:rPr b="0" lang="es-C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1844280"/>
            <a:ext cx="8215560" cy="28083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Líneas de Acción para el seguimiento del</a:t>
            </a:r>
            <a:br>
              <a:rPr sz="3200"/>
            </a:b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  Marco de Acción de Belém (MAB) </a:t>
            </a:r>
            <a:br>
              <a:rPr sz="3200"/>
            </a:b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ara  América Latina y el Carib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1 Título"/>
          <p:cNvSpPr/>
          <p:nvPr/>
        </p:nvSpPr>
        <p:spPr>
          <a:xfrm>
            <a:off x="611280" y="5084640"/>
            <a:ext cx="84042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576e"/>
                </a:solidFill>
                <a:latin typeface="Arial"/>
              </a:rPr>
              <a:t>Reunión Regional de Seguimiento de CONFINTEA V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576e"/>
                </a:solidFill>
                <a:latin typeface="Arial"/>
              </a:rPr>
              <a:t>Ciudad de México, 25-27 de Mayo de 201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60436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FINANCIAMIEN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9640" y="1125360"/>
          <a:ext cx="8604360" cy="5616720"/>
        </p:xfrm>
        <a:graphic>
          <a:graphicData uri="http://schemas.openxmlformats.org/drawingml/2006/table">
            <a:tbl>
              <a:tblPr/>
              <a:tblGrid>
                <a:gridCol w="2116080"/>
                <a:gridCol w="6488280"/>
              </a:tblGrid>
              <a:tr h="746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487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CANISMOS DE FINANCI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N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neración de convenios entre el gobierno e instituciones privadas para sustentar la implementación y el financiamiento de la EPJ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seño de incentivos a gobiernos municipales y empresas para que inviertan en EPJA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álisis y revisión de las estrategias de elaboración presupuestaria en educación y de los criterios de asignación de recursos y  sus lógicas distributivas para garantizar la educación básica a las poblaciones más vulnerabl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5200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FINANCIAMIEN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39640" y="1197000"/>
          <a:ext cx="8353440" cy="5338800"/>
        </p:xfrm>
        <a:graphic>
          <a:graphicData uri="http://schemas.openxmlformats.org/drawingml/2006/table">
            <a:tbl>
              <a:tblPr/>
              <a:tblGrid>
                <a:gridCol w="2448000"/>
                <a:gridCol w="5905440"/>
              </a:tblGrid>
              <a:tr h="509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4829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CANISMOS DE FINANCI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reg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dentificación de  mecanismos políticos y técnicos eficaces para el financiamiento de la EPJA, incluyendo reuniones con quienes toman las decisiones presupuestari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stalación de un Fondo Solidario Regional para apoyar el acceso a la educación de las personas con mayores desventajas y necesidades, articulando las iniciativas de distintas organizacione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1676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ARTICIPACION, INCLUSIÓN Y EQUIDA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70000" y="1197000"/>
          <a:ext cx="8856360" cy="5614920"/>
        </p:xfrm>
        <a:graphic>
          <a:graphicData uri="http://schemas.openxmlformats.org/drawingml/2006/table">
            <a:tbl>
              <a:tblPr/>
              <a:tblGrid>
                <a:gridCol w="2178000"/>
                <a:gridCol w="6678360"/>
              </a:tblGrid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5170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FER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Nac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arrollo de ofertas flexibles, de acuerdo a las características de los participant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mpliación de las ofertas destinadas a los jóvenes y adultos recién alfabetizados para avanzar en sus niveles de alfabetism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Reg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istematización de los procesos y resultados de experiencias de flexibilización de la oferta, en vistas a mejorar su diseño e implementación, considerando las especificidades de contexto y características de la població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42328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ARTICIPACION, INCLUSIÓN Y EQUIDA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68360" y="1268280"/>
          <a:ext cx="8567640" cy="5040360"/>
        </p:xfrm>
        <a:graphic>
          <a:graphicData uri="http://schemas.openxmlformats.org/drawingml/2006/table">
            <a:tbl>
              <a:tblPr/>
              <a:tblGrid>
                <a:gridCol w="2106720"/>
                <a:gridCol w="6460920"/>
              </a:tblGrid>
              <a:tr h="93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410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RTICIPACIÓN E INCLUS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N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seño, implementación y evaluación de un sistema de información para registrar, de manera desagregada, la participación en los programas de alfabetización y educación de adult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arrollo, implementación y evaluación  de programas inclusivos que acojan grupos con distintas necesidades de aprendizaje: jóvenes desertores, mujeres/hombres, indígenas, población en contexto de encierro y población rur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ARTICIPACION, INCLUSIÓN Y EQUIDA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9280" y="1125360"/>
          <a:ext cx="8856720" cy="5608800"/>
        </p:xfrm>
        <a:graphic>
          <a:graphicData uri="http://schemas.openxmlformats.org/drawingml/2006/table">
            <a:tbl>
              <a:tblPr/>
              <a:tblGrid>
                <a:gridCol w="2178000"/>
                <a:gridCol w="6678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5242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RTICIPACIÓN E INCLU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Reg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mento de la cooperación entre los países, en colaboración con el UIS con el fin de apoyar el diseño de sistemas de información para la EPJA y generar  estadísticas comparabl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vantamiento de aspectos claves y criterios comunes para el desarrollo de ofertas pertinentes de alfabetización y educación de adultos en contextos de ruralidad e interculturalidad, así como de discriminación hacia las mujer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studio del impacto de la inclusión de niños-jóvenes (adultos sociales) en la oferta de Educación de Adultos y desarrollo de estrategias para su adecuada inserción educacion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lización de un estudio sobre los factores que influyen en la participación y permanencia de las personas en la EPJ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642160" cy="72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CALIDA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50920" y="1052640"/>
          <a:ext cx="8713800" cy="5344920"/>
        </p:xfrm>
        <a:graphic>
          <a:graphicData uri="http://schemas.openxmlformats.org/drawingml/2006/table">
            <a:tbl>
              <a:tblPr/>
              <a:tblGrid>
                <a:gridCol w="2143080"/>
                <a:gridCol w="6570720"/>
              </a:tblGrid>
              <a:tr h="588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4755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URRÍCULO, MATERIAL PEDAGÓGICO Y ENTORNOS DE APRENDIZA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Na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arrollo de currículos contextualizados que respondan a las  necesidades de  poblaciones diversas y a los requerimientos laborales y socia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visión periódica, con participación de los educandos, de materiales pedagógicos para mejorar su calidad y pertinen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tilización y/o creación de espacios públicos/centros comunitarios, equipados con recursos educativos pertinent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Reg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laboración de  criterios orientadores para mejorar la calidad de currículum y del material pedagógico, considerando la diversidad de requerimientos y necesidades de las poblacion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dentificación y promoción de experiencias que hayan conseguido  la generación de ambientes letrados y metodologías que fomenten el uso de la lectura y la escritura en diferentes context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524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CALIDA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0920" y="1160640"/>
          <a:ext cx="8786880" cy="5697360"/>
        </p:xfrm>
        <a:graphic>
          <a:graphicData uri="http://schemas.openxmlformats.org/drawingml/2006/table">
            <a:tbl>
              <a:tblPr/>
              <a:tblGrid>
                <a:gridCol w="2143080"/>
                <a:gridCol w="6643800"/>
              </a:tblGrid>
              <a:tr h="48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5212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CILITADORES O EDUCAD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Nac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arrollo de perfiles profesionales para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s 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ncargados de programas,  educadores y facilitadores de EPJ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arrollo,  implementación y evaluación de procesos de formación para los 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ncargados de programas,  educadores y facilitadores de EPJA.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arrollo y promoción de programas de educación superior que respondan a los nuevos perfiles para la formación de los profesionales de la EPJA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moción de mejoras de condiciones laborales de los educador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CALIDA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50920" y="1197000"/>
          <a:ext cx="8713800" cy="5040360"/>
        </p:xfrm>
        <a:graphic>
          <a:graphicData uri="http://schemas.openxmlformats.org/drawingml/2006/table">
            <a:tbl>
              <a:tblPr/>
              <a:tblGrid>
                <a:gridCol w="2143080"/>
                <a:gridCol w="6570720"/>
              </a:tblGrid>
              <a:tr h="631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4408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CILITADORES O EDUCAD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Reg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laboración, con participación de distintos países, de perfiles y criterios que orienten las propuestas y los procesos de formación de los educadores de adultos, incluidos los voluntarios y maestros popular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partir de las experiencias desarrolladas en distintos países, elaboración de una serie de materiales pedagógicos destinados a la formación de educadores y facilitadores de alfabetización y EPJA, considerando los distintos ámbitos de acc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moción de la profesionalización de los educadores de EPJA en relación con centros de educación superior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164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CALIDA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1197000"/>
          <a:ext cx="8870760" cy="5256360"/>
        </p:xfrm>
        <a:graphic>
          <a:graphicData uri="http://schemas.openxmlformats.org/drawingml/2006/table">
            <a:tbl>
              <a:tblPr/>
              <a:tblGrid>
                <a:gridCol w="2181240"/>
                <a:gridCol w="6689520"/>
              </a:tblGrid>
              <a:tr h="1025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4230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VALUACIÓN DE APRENDIZAJ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N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seño de metodologías e instrumentos que consideren como componente integral la evaluación de aprendizajes de las personas que participan en los programas de alfabetización y EPJ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Reg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dentificación y descripción de las competencias que requieren las personas para mejorar sus condiciones de vida y participar activamente en su comunida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seño de modelos e instrumentos que permitan evaluar las competenci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CALIDA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1197000"/>
          <a:ext cx="8713800" cy="5111640"/>
        </p:xfrm>
        <a:graphic>
          <a:graphicData uri="http://schemas.openxmlformats.org/drawingml/2006/table">
            <a:tbl>
              <a:tblPr/>
              <a:tblGrid>
                <a:gridCol w="2143080"/>
                <a:gridCol w="6570720"/>
              </a:tblGrid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4667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NITOREO Y EVALUACION DE PR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Nac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clusión del monitoreo y la evaluación como componente integral en el diseño de los programa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arrollo de estudios de impacto en programas de alfabetización y educación de adult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moción de una cultura de evaluación para mejorar continuamente la calidad de la oferta educativa en la EP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Calibri"/>
              </a:rPr>
              <a:t>Líneas de acción: síntesis del trabajo realizado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íneas de acción enriquecidas: resultado del trabajo realizado por los grupos en relación a la propuesta de matriz presentada en la reun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l equipo de gestión de la matriz incorporó los aportes de los tres grupos, buscando los consens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CALIDA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50920" y="1125360"/>
          <a:ext cx="8713800" cy="5108760"/>
        </p:xfrm>
        <a:graphic>
          <a:graphicData uri="http://schemas.openxmlformats.org/drawingml/2006/table">
            <a:tbl>
              <a:tblPr/>
              <a:tblGrid>
                <a:gridCol w="2143080"/>
                <a:gridCol w="6570720"/>
              </a:tblGrid>
              <a:tr h="443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4665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NITOREO Y EVALUACION DE PR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Reg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rtalecimiento de la capacidad de investigación en la EPJA a través del establecimiento de una red de instituciones especializad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lección y difusión de estudios sobre diferentes aspectos de la alfabetización y educación de adultos, entre otro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strategias de aprendizaje de los adultos en contextos culturales específicos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lación entre estrategias de aprendizaje y formación docente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strategias para una mayor inclusión de personas jóvenes y adultas en procesos de aprendizaje en distintos context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Calibri"/>
              </a:rPr>
              <a:t>Próximos pas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En total se propusieron 55 líneas de acció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26 nacion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29 region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Son líneas de acción que deberán dar paso a proyectos concretos, lo que implica establecer prioridades y estrategias de cooper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98524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OLITICA Y GOBERNANZ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1176480"/>
          <a:ext cx="9036000" cy="5655960"/>
        </p:xfrm>
        <a:graphic>
          <a:graphicData uri="http://schemas.openxmlformats.org/drawingml/2006/table">
            <a:tbl>
              <a:tblPr/>
              <a:tblGrid>
                <a:gridCol w="2259000"/>
                <a:gridCol w="6777000"/>
              </a:tblGrid>
              <a:tr h="443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5212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isl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Nac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clusión de la educación de adultos y de sus diversas modalidades en la ley de educación y mecanismos de monitoreo de cumplimiento de la le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Reg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arrollo de un estudio comparativo sobre los avances de los países de América Latina y el Caribe, en materia normativa en educación de personas jóvenes y adult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álisis y difusión de modelos de institucionalidad de la EPJA que impulsen el aprendizaje a lo largo de la vida y posibiliten diferentes trayectorias educativ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44560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OLITICA Y GOBERNANZ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1125360"/>
          <a:ext cx="8423280" cy="5448600"/>
        </p:xfrm>
        <a:graphic>
          <a:graphicData uri="http://schemas.openxmlformats.org/drawingml/2006/table">
            <a:tbl>
              <a:tblPr/>
              <a:tblGrid>
                <a:gridCol w="2016000"/>
                <a:gridCol w="6407280"/>
              </a:tblGrid>
              <a:tr h="47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4970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íticas y pla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N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arrollo de un plan estratégico de EPJA que articule formación general, capacitación laboral, educación para la ciudadanía, movilización comunitaria e inclusión social en la perspectiva del aprendizaje a lo largo de la vid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gración de componentes de alfabetización y educación de adultos en programas nacionales de desarrollo vinculados con la salud, extensión agraria, medio ambiente, etc., e integrados con los ODM y la E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Reg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partir de experiencias nacionales y regionales, diseño e implementación de estrategias de capacitación destinadas a directivos de EPJA y tomadores de decisión de los Ministerios de Educación, para instalar el concepto de aprendizaje a lo largo de la vida e impulsar políticas basadas en este enfoque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OLITICA Y GOBERNANZ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8360" y="1197000"/>
          <a:ext cx="8280360" cy="5089680"/>
        </p:xfrm>
        <a:graphic>
          <a:graphicData uri="http://schemas.openxmlformats.org/drawingml/2006/table">
            <a:tbl>
              <a:tblPr/>
              <a:tblGrid>
                <a:gridCol w="2124000"/>
                <a:gridCol w="6156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4723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as de reconocimi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Nac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mplementación de sistemas de reconocimiento, validación y acreditación de todas las formas de aprendizaje, lo que incluye el desarrollo gradual de diferentes componentes, como: marcos de referencia, mecanismos  e instrumentos de evaluación de aprendizajes, entre otro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OLITICA Y GOBERNANZ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1052640"/>
          <a:ext cx="8351640" cy="5545080"/>
        </p:xfrm>
        <a:graphic>
          <a:graphicData uri="http://schemas.openxmlformats.org/drawingml/2006/table">
            <a:tbl>
              <a:tblPr/>
              <a:tblGrid>
                <a:gridCol w="2124000"/>
                <a:gridCol w="6227640"/>
              </a:tblGrid>
              <a:tr h="380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5164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as de reconoci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Reg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álisis de los sistemas de reconocimiento y  certificación  de aprendizajes previos formales, no  formales e informales, desarrollados en ALC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laboración y difusión de orientaciones y criterios para apoyar la implementación de estructuras y mecanismos de reconocimiento y acreditación de aprendizajes, en vistas a una mejor inserción laboral y participación ciudadan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arrollo de marcos de equivalencia para el reconocimiento de formación general y laboral que facilite la movilidad de las personas entre los países de la región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neración de mecanismos de valoración y reconocimiento de los saberes de las culturas indígena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OLITICA Y GOBERNANZ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1197000"/>
          <a:ext cx="8424720" cy="5456160"/>
        </p:xfrm>
        <a:graphic>
          <a:graphicData uri="http://schemas.openxmlformats.org/drawingml/2006/table">
            <a:tbl>
              <a:tblPr/>
              <a:tblGrid>
                <a:gridCol w="2124000"/>
                <a:gridCol w="6300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5090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BERNA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Na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stalación de un Comité Nacional de Coordinación para la planificación y evaluación de políticas de  EPJA, con la participación de todos los actores, incluyendo a los educandos/participant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neración de mecanismos y acuerdos de cooperación dentro y entre el ministerio de educación,  otros ministerios e instituciones de la sociedad civil para el desarrollo de ofertas de alfabetización y educación de adult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2472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OLITICA Y GOBERNANZ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24000" y="1058760"/>
          <a:ext cx="8496000" cy="5761080"/>
        </p:xfrm>
        <a:graphic>
          <a:graphicData uri="http://schemas.openxmlformats.org/drawingml/2006/table">
            <a:tbl>
              <a:tblPr/>
              <a:tblGrid>
                <a:gridCol w="2124000"/>
                <a:gridCol w="63720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5394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BERNA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Reg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lección y promoción de experiencias exitosas de participación activa de los distintos actores y de articulación intersectorial e interinstitucional, en  programas de alfabetización y EPJ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neración de alianzas con distintos foros de parlamentarios a nivel regional y/o subregional e inclusión de la EPJA como tema en los organismos regionales e internacional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stitución de un grupo de especialistas  para fortalecer y articular la experiencia acumulada en el desarrollo de políticas y programas de aprendizaje a lo largo de la vid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lización de un mapeo de las necesidades y posibilidades de cooperación regional en materia de EPJA,  especialmente para apoyar procesos emerg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8996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FINANCIAMIEN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4000" y="1197000"/>
          <a:ext cx="8640720" cy="5222880"/>
        </p:xfrm>
        <a:graphic>
          <a:graphicData uri="http://schemas.openxmlformats.org/drawingml/2006/table">
            <a:tbl>
              <a:tblPr/>
              <a:tblGrid>
                <a:gridCol w="2124000"/>
                <a:gridCol w="651672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4851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A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N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clusión en el presupuesto nacional de una referencia explícita a los fondos dedicados a la EPJA, que especifique los ministerios de proceden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lanificación de actividades para sensibilizar acerca de la importancia de invertir en EPJA y el impacto positivo de esta inversió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Reg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strucción de un marco que defina los principales componentes del gasto público en alfabetización y EPJA, con la participación de expertos e instituciones nacionales, en colaboración con el Instituto de Estadísticas de la UNESCO (UIS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stimación de la inversión necesaria para desarrollar distintas ofertas de calidad en EPJ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22:46:52Z</dcterms:created>
  <dc:creator>Isabel Infante</dc:creator>
  <dc:description/>
  <dc:language>en-US</dc:language>
  <cp:lastModifiedBy>mele</cp:lastModifiedBy>
  <dcterms:modified xsi:type="dcterms:W3CDTF">2011-05-27T14:29:00Z</dcterms:modified>
  <cp:revision>141</cp:revision>
  <dc:subject/>
  <dc:title>Diapositiva 1</dc:title>
</cp:coreProperties>
</file>