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8B9-612E-467D-8EBB-C2F2D09E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666-6F86-401F-9A5F-67A9B147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107-B392-465C-A281-FE53022F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3D6-5C06-4EA0-9E3C-5227899F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C8C1-21AB-4D99-921E-97622FAB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3839-D83A-42D6-BB07-B84030DD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62E7-DACF-4677-A3B4-AEC097E3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EC12-34FD-4FE0-9355-41886509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A87C-E1FB-480C-B458-FB200DF3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E813-1096-447A-8BE5-0F1F472C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50D5-A6E7-4E1F-BFD2-4E43F878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B25-2415-40B3-A4CA-91E7BAAF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14AB-3667-4F73-BB9A-3E989BF0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A83B-183B-4AE0-8B4A-6676B5CC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E785-A127-4165-9BEF-6775754F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DBC2-4B21-4D7D-A992-1BFBD3B8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FDFA-47F6-47A9-899A-EA0CAFC9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99E-E0E1-4144-82FC-7538192C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7C0-5EF8-42DC-942A-C55B630B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E91-3568-4447-A78E-B6CA0C81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973-3EE3-4B89-B96A-660BFF03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79D-B5E8-4064-A1BD-ED6D7ABC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364-3D00-4208-8E7D-FF2F20AD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166-81EC-4D6D-A997-8C49C884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0e0e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D69F-83C6-446D-B94B-BF2800EE4F79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5407-4351-4F33-93CC-B59E9D2DA213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 CONFINTEA-SEGUIMIENTO AMERICA LATINA Y EL CARIB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íntesis, reflexiones, perspectiva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lvia Schmel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dad Iberoamericana - Mé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o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ARCO DE ACCION DE B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nces.  Ejemplos esperanzad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obern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yes.  No bastan, pero denotan consenso conceptual. Protegen, permiten defensa.  Avanzar hacia exigibilidad, justici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anes de mediano y largo plazo, educativ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jalá pudiéramos avanzar hacia proyectos de 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ectorialidad.  Importantísimo, fund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versalidad.  En otros sector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arco de acción de B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quemas de ahorro por no dupl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ones intereducativas (formal, no f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ta de información sobre costos. O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UDIO REGIONAL DE COSTOS DE LA EDUCACION DE ADULTOS Y DE NO HACER EDUCACION DE ADU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os conocedores, especialistas.  Vací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Marco de Acción de B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re participación, equidad, inclu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tres pasan a ser el gran marco de las políticas públicas en Boliv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dad en ley el Dominic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PJA debe trabajar con los pobres no porque son pobres, sino para que dejen de s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 de sujetos en decisiones.  Empoderamiento de pueblos indíg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s, OSCs aliados indispensables, respetándo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Marco de Acción de B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concepto de inclusión – a participación en pié de igual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tan datos desagregados para atender inequ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a crece, conciencia de derecho - ¿comenzar por ahí? Reconocerla aunque no exija EPJA por su no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Marco de Acción de B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r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más importante es el agente educativo profesional con condiciones dignas de trabajo – avances en Dominicana, por ejemp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uente con reconocimeinto de la diversidad, emerge el criterio de la flex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s centrados en el alumno, “student friendly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r cuánto nos cuesta el voluntari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ectivamente es importante cuidar la calidad de la ofe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EL CRITERIO MAS IMPORTANTE DE LA CALIDAD ES LA RELEVANCIA, incluyendo la pertinencia cultural y linguística.  Para el mejoramiento de la calidad de vida como cada grupo humano la entiende.  El buen vivir, por ejemp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UNAS COYUNTURAS FAVO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JO ALGUNAS QUE SE MENCIONARON Y QUE CONVIENE NO PERDER DE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órica de CONFITEA que cambia la realidad – habría que monitorear 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mientos sociales que se apropian del Estado, de la hist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cimiento de la conciencia del derecho a la educación, que amplía la demanda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cimiento económico de la región previsiblemente sostenido para los próximos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do multipolar, cooperación sur-s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ONITOR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presa, no sólo mía, de constatar CUATRO propuestas diferentes DE UNE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parecen legítimas: la que retoma el mandato de Belem de encargarle a UNESCO el monitor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la propuesta regional, también prevista en el M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biéramos esperado un acuerdo.  Confundió y sigue confundiendo que no lo haya habido previo a esta reun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onitor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 una hipótesis: El progreso de la retórica a la acción se da mediado por el monitor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ría que cuestionar si es su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ónde queda lo sustantivo?  ¿Qué acciones conviene promover?  ¿Qué desafíos hay que superar?  ¿Cómo enfrentar las exigencias contextu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RLE SEGUIMIENTO A LOS COMPROMISOS DE BELEM, NO BA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onitor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giríamos que UIL y UIS se pusieran de acuer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raríamos que las dos propuestas regionales se hicieran complemen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í se requiere información.  PERO NO TANTA.  Distrae, quiérase que no, de lo sustantivo.  Las oficinas sin recursos tendrán que destinar recursos a construir indicadores.  ¿Y lo importante?  No es indispensable llenar cada celdilla de las matric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onitor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 la propuesta de la UNESCO Brasil y del Gobierno de Brasil, se hace indispensable un ejercicio de jerarquización de la información indispensable.  Se habló de costos y de desagregación.  Quizás alguna carácterización de la oferta por criterios de calidad.  Alguna medida de resultados de aprendiz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lectura del con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breza. A combatir.  También desde EP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quidad. A combatir. También desde EP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dad – como riqueza, no como problema. A aprovec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bre las políticas más generales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yecto de país – equidad, democr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o equilibrado, pleno emp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miento del gasto social. Reforma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s públicas, no de gobi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onitor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o muchos riesgos de centrar el seguimiento de Belem en monitoreo centrado en indicad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tificamos un progreso que queremos cualitativo, sin rescatar lo cualitativo del pro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r entre países es importante, pero no es lo más importante.  Lo más importante es que cada país se compare respecto de sí m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información cobra sentido si se usa para mejorar.  La sola propuesta de monitoreo no dice nada sobre cómo se asegurará su uso con este 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corre el riesgo de legitimar la uniform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go que los indicadores no sean importantes.  Lo que digo es que, respecto de la EPJA no son lo único ni lo más importan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onitor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encuentro varias virtudes a la propuesta de OREALC, que no conoc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documento de trabajo que aquí ha sido enriquecido y deberá seguir enriqueciénd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ca que se definan líneas de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tir de un diagnóstico – requerimi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a para adelante.  No se entretiene en medir lo que se hace. Da cuenta, de manera cualitativa, de los avances.  Permite el enriquecimiento mut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ea proyectos regionales que ofrecen permanecer entre cambios administr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unos de éstos deben ser estudios de impact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ION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queza de reunirnos y compartir, a escaso año y medio de Be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nces, no necesariamente atribuibles a CONFINTEA, sino a coyunturas de los países.  Pero avances como sea, que nos devuelven la esperanza y nos conducen a apre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ovamos el interés por seguir trabajando por visibilizar y darle mejores condiciones de viabilidad a la EPJA y a sus resultados e impa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reto sigue siendo salir de la marginalidad, multiplicar a los interlocutores, hacer crecer nuestras sociedades en la capacidad de exigir a nuestros estados el cumplimiento del derecho a la educación de calidad a lo largo de la vida para todos y toda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 EL PARADIGMA DE LA EP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la retórica de los CONFITEAS, entre otras cosas, ha contribuido a cr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DUCACION COMO UN DERECHO HUMANO FU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 se mide por las cuatro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 además se refiere al derecho a una educación de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 largo de l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o derecho clave que permite la vivencia de otros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x0018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s falta reconocer que el garante de ese derecho es el estado.  Que su no cumplimiento debería ser exigible, justiciable. Y reconocer que lograr esto es parte de nuestro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PROPOSITO DE LA EPJA ES EL MEJORAMIENTO DE LA CALIDAD DE VIDA INDIVIDUAL Y COLECTIVA DE LOS SU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vés del reconocimiento y de la apropiación efectiva de conocimientos, habilidades y competencias ciudadanas (valores de convivencia de equidad de género, intercultural y democrát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que los resultados de aprendizaje importan, pero en función de su aporte al mejoramiento de la calidad de v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DUCACION ES A LO LARGO DE TODA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en EPJA significa romper las barreras entre la alfabetización y la continuidad educativa.  No compartament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 la alfabetización se sigue desarrollando a lo largo de la vida.  Es un continuum, no una dicotomía.  No es un primer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jar de hablar de postalfabet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bir realmente un continuum relevante, flexible, que responda a necesidades, intereses y aspiraciones de los jóvenes y adultos dive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PJA ES TRANSVERSAL A TODAS LAS AREAS DE DESARROLLO SOCIAL Y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a la EPJA le exige estar presente ahí donde se están desarrollando procesos de transformación y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provocar la existencia de estos procesos ahí donde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uede ser concebida como una actividad sectorial realizada en aislaimeinto de otros 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16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PJA ES UNA ACTIVIDAD PROFESIONAL, COMPLEJA, PEDAGOGICA Y SOCIA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 le puede encomendar a cualqu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requiere formación profesional especializada y a lo largo de la vida de trabajo para hacerla bien, para lograr el propósi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PJA CONSIDERA A LOS SUJETOS COMO ACTORES INDIVIDUALES Y COLECTIVOS DE SUS PROCESOS PERSON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erra la noción de défic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ONTEXTO DE AMERICA L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uyo contexto Paulo Freire desarrolló la Educación como Práctica de la Libertad y la Pedagogía del Oprim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una rica tradición de educación pop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ha aportado y puede seguir aportando a la EPJA en general, incluso a la que se realiza desde el Es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ARCO DE ACCION DE B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alidad de la EPJA.  Llamado a salir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í en esta reunión nos faltan interlocutores cl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erios de finan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isl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ros sectores de desarrollo humano y soc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ias de EPJA víctimas de los gobiernos que no creen en ella.  Visibil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22:05:44Z</dcterms:created>
  <dc:creator>SYLVIA SCHMELKES</dc:creator>
  <dc:description/>
  <dc:language>en-US</dc:language>
  <cp:lastModifiedBy>JuanCarlos HB</cp:lastModifiedBy>
  <cp:lastPrinted>2011-05-27T00:33:05Z</cp:lastPrinted>
  <dcterms:modified xsi:type="dcterms:W3CDTF">2011-05-27T00:33:44Z</dcterms:modified>
  <cp:revision>27</cp:revision>
  <dc:subject/>
  <dc:title>EDUCATION FOR AN INTERCUTLURAL COUNTRY</dc:title>
</cp:coreProperties>
</file>