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457-2868-48CB-A380-675FE67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330-C13C-4538-9E04-C58C6A2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642-FF46-4541-87A0-5FD5C088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E59-B0EB-47A1-9F42-B4DE6417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83D6-D517-47FC-B908-0FDE487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8999-CB1B-4A29-8A8F-EF3E04D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BDD-682E-42BA-88D7-A8F175F6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4FB-7306-4A0E-B46C-DC48AB8E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2525-DF4F-4CEE-95DF-09A57DDF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3447-B012-4194-950C-028CBDA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5320-BA2A-49A0-9FBD-699D563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D40-44F3-4F5D-A816-70EF6754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9BD6-A21E-4093-AA24-A35E381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FD6-8ABE-4C20-98E1-A9418C6F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CE7C-84E7-4082-8CE0-D2694A3B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26E7-6EE6-4A46-B2EA-A2B159C2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17DF-5894-4415-B74D-E673B6BD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A77-FFF8-4AB1-9748-9E956475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356-46FC-40B8-B9D3-71FEA78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70C-B805-40B6-A644-B009A83D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604-DE1D-4424-B8EF-A0392D4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30B-A329-46A0-A683-15E151D9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A62-DAD6-4D32-A229-5B56707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D2-86EB-49C1-AAD2-85C3603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0e0e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EBCD-8273-4CB0-BABF-ECDA3263773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BA5-56B1-4118-9B28-D3D968B83677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 CONFINTEA-SEGUIMIENTO AMERICA LATINA Y EL CARIB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íntesis, reflexiones, perspectiv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lvia Schmel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dad Iberoamericana - Mé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O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ces.  Ejemplos esperanzad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obern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yes.  No bastan, pero denotan consenso conceptual. Protegen, permiten defensa.  Avanzar hacia exigibilidad, justic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lanes de mediano y largo plazo, educativ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jalá pudiéramos avanzar hacia proyectos de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ectorialidad.  Importantísimo, fund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alidad.  En otros sect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financi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quemas de ahorro por no dupl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ones intereducativas (formal, no f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 de información sobre costos. O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IO REGIONAL DE COSTOS DE LA EDUCACION DE ADULTOS Y DE NO HACER EDUCACION DE ADUL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cos conocedores, especialistas. 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articipación, equidad, inclu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tres pasan a ser el gran marco de las políticas públicas en Boli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dad en ley el Dominic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PJA debe trabajar con los pobres no porque son pobres, sino para que dejen de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sujetos en decisiones.  Empoderamiento de pueblos indíg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s, OSCs aliados indispensables, respetánd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ar concepto de inclusión – a participación en pié de igual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tan datos desagregados para atender inequ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a crece, conciencia de derecho - ¿comenzar por ahí? Reconocerla aunque no exija EPJA por su no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Marco de Acció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más importante es el agente educativo profesional con condiciones dignas de trabajo – avances en Dominicana, por ej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ruente con reconocimeinto de la diversidad, emerge el criterio de la flex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as centrados en el alumno, “student friendly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r cuánto nos cuesta el voluntari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ectivamente es importante cuidar la calidad de la of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EL CRITERIO MAS IMPORTANTE DE LA CALIDAD ES LA RELEVANCIA, incluyendo la pertinencia cultural y linguística.  Para el mejoramiento de la calidad de vida como cada grupo humano la entiende.  El buen vivir, por ejemp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UNAS COYUNTURAS FAVO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JO ALGUNAS QUE SE MENCIONARON Y QUE CONVIENE NO PERDER DE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órica de CONFITEA que cambia la realidad – habría que monitorear e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mientos sociales que se apropian del Estado, de la histo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de la conciencia del derecho a la educación, que amplía la demanda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económico de la región previsiblemente sostenido para los próximos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do multipolar, cooperación sur-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resa, no sólo mía, de constatar CUATRO propuestas diferentes DE UNE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parecen legítimas: la que retoma el mandato de Belem de encargarle a UNESCO el monito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la propuesta regional, también prevista en el M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iéramos esperado un acuerdo.  Confundió y sigue confundiendo que no lo haya habido previo a esta reun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una hipótesis: El progreso de la retórica a la acción se da mediado por el monitor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ría que cuestionar si es su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Dónde queda lo sustantivo?  ¿Qué acciones conviene promover?  ¿Qué desafíos hay que superar?  ¿Cómo enfrentar las exigencias contextu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RLE SEGUIMIENTO A LOS COMPROMISOS DE BELEM, NO BA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giríamos que UIL y UIS se pusieran de acuer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raríamos que las dos propuestas regionales se hicieran complemen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í se requiere información.  PERO NO TANTA.  Distrae, quiérase que no, de lo sustantivo.  Las oficinas sin recursos tendrán que destinar recursos a construir indicadores.  ¿Y lo importante?  No es indispensable llenar cada celdilla de las matri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la propuesta de la UNESCO Brasil y del Gobierno de Brasil, se hace indispensable un ejercicio de jerarquización de la información indispensable.  Se habló de costos y de desagregación.  Quizás alguna carácterización de la oferta por criterios de calidad.  Alguna medida de resultados de aprendiza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lectura del con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breza. A combatir.  También desde E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idad. A combatir. También desde EP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dad – como riqueza, no como problema. A aprove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bre las políticas más generale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yecto de país – equidad, democr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equilibrado, pleno emp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miento del gasto social. Reform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s públicas, no de gob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o muchos riesgos de centrar el seguimiento de Belem en monitoreo centrado en indica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tificamos un progreso que queremos cualitativo, sin rescatar lo cualitativo del pro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r entre países es importante, pero no es lo más importante.  Lo más importante es que cada país se compare respecto de sí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formación cobra sentido si se usa para mejorar.  La sola propuesta de monitoreo no dice nada sobre cómo se asegurará su uso con este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corre el riesgo de legitimar la uniform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go que los indicadores no sean importantes.  Lo que digo es que, respecto de la EPJA no son lo único ni lo más importan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onitor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encuentro varias virtudes a la propuesta de OREALC, que no conoc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documento de trabajo que aquí ha sido enriquecido y deberá seguir enriquecién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ca que se definan líneas de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r de un diagnóstico – requer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a para adelante.  No se entretiene en medir lo que se hace. Da cuenta, de manera cualitativa, de los avances.  Permite el enriquecimiento mut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ea proyectos regionales que ofrecen permanecer entre cambios administr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de éstos deben ser estudios de impact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ON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queza de reunirnos y compartir, a escaso año y medio de Be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nces, no necesariamente atribuibles a CONFINTEA, sino a coyunturas de los países.  Pero avances como sea, que nos devuelven la esperanza y nos conducen a apr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ovamos el interés por seguir trabajando por visibilizar y darle mejores condiciones de viabilidad a la EPJA y a sus resultados e impa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reto sigue siendo salir de la marginalidad, multiplicar a los interlocutores, hacer crecer nuestras sociedades en la capacidad de exigir a nuestros estados el cumplimiento del derecho a la educación de calidad a lo largo de la vida para todos y toda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L PARADIGMA DE LA EP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la retórica de los CONFITEAS, entre otras cosas, ha contribuido a cr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DUCACION COMO UN DERECHO HUMANO FUND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se mide por las cuatro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además se refiere al derecho a una educación de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 largo de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derecho clave que permite la vivencia de otr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x001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falta reconocer que el garante de ese derecho es el estado.  Que su no cumplimiento debería ser exigible, justiciable. Y reconocer que lograr esto es parte de nuestro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PROPOSITO DE LA EPJA ES EL MEJORAMIENTO DE LA CALIDAD DE VIDA INDIVIDUAL Y COLECTIVA DE LOS SU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vés del reconocimiento y de la apropiación efectiva de conocimientos, habilidades y competencias ciudadanas (valores de convivencia de equidad de género, intercultural y democrá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que los resultados de aprendizaje importan, pero en función de su aporte al mejoramiento de la calidad de vi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DUCACION ES A LO LARGO D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en EPJA significa romper las barreras entre la alfabetización y la continuidad educativa.  No compartament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la alfabetización se sigue desarrollando a lo largo de la vida.  Es un continuum, no una dicotomía.  No es un primer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 de hablar de postalfabet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bir realmente un continuum relevante, flexible, que responda a necesidades, intereses y aspiraciones de los jóvenes y adultos dive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ES TRANSVERSAL A TODAS LAS AREAS DE DESARROLLO SOCIAL Y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que a la EPJA le exige estar presente ahí donde se están desarrollando procesos de transformación y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vocar la existencia de estos procesos ahí donde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uede ser concebida como una actividad sectorial realizada en aislaimeinto de otros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16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ES UNA ACTIVIDAD PROFESIONAL, COMPLEJA, PEDAGOGICA Y SOCI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le puede encomendar a cualqu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requiere formación profesional especializada y a lo largo de la vida de trabajo para hacerla bien, para lograr el propós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PJA CONSIDERA A LOS SUJETOS COMO ACTORES INDIVIDUALES Y COLECTIVOS DE SUS PROCESOS PERSON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erra la noción de défic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ONTEXTO DE AMERICA 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uyo contexto Paulo Freire desarrolló la Educación como Práctica de la Libertad y la Pedagogía del Oprim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una rica tradición de educación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ha aportado y puede seguir aportando a la EPJA en general, incluso a la que se realiza desde el Es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EL MARCO DE ACCION DE BE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idad de la EPJA.  Llamado a salir de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í en esta reunión nos faltan interlocutores cl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ios de fin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sl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s sectores de desarrollo humano y so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ias de EPJA víctimas de los gobiernos que no creen en ella.  Visibil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22:05:44Z</dcterms:created>
  <dc:creator>SYLVIA SCHMELKES</dc:creator>
  <dc:description/>
  <dc:language>en-US</dc:language>
  <cp:lastModifiedBy>JuanCarlos HB</cp:lastModifiedBy>
  <cp:lastPrinted>2011-05-27T00:33:05Z</cp:lastPrinted>
  <dcterms:modified xsi:type="dcterms:W3CDTF">2011-05-27T00:33:44Z</dcterms:modified>
  <cp:revision>27</cp:revision>
  <dc:subject/>
  <dc:title>EDUCATION FOR AN INTERCUTLURAL COUNTRY</dc:title>
</cp:coreProperties>
</file>