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45200" cy="934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54240" cy="468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89520" y="-360"/>
            <a:ext cx="3054240" cy="468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73520" cy="350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04880" y="443988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8875440"/>
            <a:ext cx="3054240" cy="468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89520" y="8875440"/>
            <a:ext cx="3054240" cy="468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8013-6E02-4B59-8E7A-82BE2FAE1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89520" y="8875800"/>
            <a:ext cx="30542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6085-CAF0-467E-9BF8-97430AEFE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4880" y="443988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89520" y="8875800"/>
            <a:ext cx="30542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FF6F-B2D1-43D6-A946-297F28145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4880" y="443988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845A-9DC1-483D-950B-FF03DA82B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87A3-CFE9-49E7-895B-323CE0FB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E1C5-87C2-4930-9107-B1CF242E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BFB5-4AD4-4FA2-A972-81923EDA4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6D97-4E2C-4C64-A188-903F8EB5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94EF-6DDE-4A9A-8413-BB5A66F4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4EE7-7061-4AE4-9541-A2D13545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72BF-C2B0-4F77-AD03-BF010268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A6A8-4163-422B-825B-856A888B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9640" y="18900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09D2-2273-4284-A44E-627A7121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4B6C-9D91-4DB5-8D62-6CE98F73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6F64-AB45-4FA4-B137-1947EDDD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B645-4867-42C8-B799-B51419FA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8EEF-211F-4C8E-B05B-9AB12F2C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16F6-D8E7-4DD7-8C8B-C9A11C00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5FAF-C5F0-440D-8519-58804BEF2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A822-6C56-491B-A796-534D61B81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334A-B473-4D1B-9FF5-77AA4D6A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AF6F-AC12-4DFF-8760-012D8F14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4007-A266-4F5A-9331-E98088C2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9640" y="18900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22B3-9347-4F70-8635-390288FE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3C8D-9D66-41AD-82A0-1C751DCD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1BCA-BA9E-4E91-8838-BA4A09F4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01AB-095A-43AA-BBC1-E1EC6EB2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1B5B-5C79-4066-90CB-77F6B95839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39528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2286000"/>
            <a:ext cx="395280" cy="2286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0" y="4572000"/>
            <a:ext cx="39528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228600" y="2492280"/>
            <a:ext cx="2870280" cy="252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3098880" y="2492280"/>
            <a:ext cx="2870280" cy="252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5969160" y="2492280"/>
            <a:ext cx="2869920" cy="25236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622A-D8BC-4067-8FD5-6810320A36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26920" y="2997360"/>
            <a:ext cx="7786800" cy="15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6699"/>
                </a:solidFill>
                <a:latin typeface="Gill Sans Ultra Bold Condensed"/>
              </a:rPr>
              <a:t>La Educación de Personas Jóvenes y Adultas en El Salvad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30"/>
          <p:cNvSpPr/>
          <p:nvPr/>
        </p:nvSpPr>
        <p:spPr>
          <a:xfrm>
            <a:off x="1643040" y="6143760"/>
            <a:ext cx="72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100" spc="-1" strike="noStrike">
                <a:solidFill>
                  <a:srgbClr val="666699"/>
                </a:solidFill>
                <a:latin typeface="Gill Sans MT"/>
              </a:rPr>
              <a:t>                   </a:t>
            </a:r>
            <a:r>
              <a:rPr b="0" lang="es-SV" sz="1800" spc="-1" strike="noStrike">
                <a:solidFill>
                  <a:srgbClr val="666699"/>
                </a:solidFill>
                <a:latin typeface="Gill Sans MT"/>
              </a:rPr>
              <a:t>San Salvador, Mayo2011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28260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510480" y="9601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547640" y="189000"/>
          <a:ext cx="6096240" cy="1020600"/>
        </p:xfrm>
        <a:graphic>
          <a:graphicData uri="http://schemas.openxmlformats.org/drawingml/2006/table">
            <a:tbl>
              <a:tblPr/>
              <a:tblGrid>
                <a:gridCol w="1186200"/>
                <a:gridCol w="3539880"/>
                <a:gridCol w="1370160"/>
              </a:tblGrid>
              <a:tr h="1706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8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Ministerio de Educación de El Salvad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0" name="Imagen 2" descr="escudo"/>
          <p:cNvPicPr/>
          <p:nvPr/>
        </p:nvPicPr>
        <p:blipFill>
          <a:blip r:embed="rId1"/>
          <a:stretch/>
        </p:blipFill>
        <p:spPr>
          <a:xfrm>
            <a:off x="0" y="0"/>
            <a:ext cx="1428840" cy="1214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3"/>
          <p:cNvSpPr/>
          <p:nvPr/>
        </p:nvSpPr>
        <p:spPr>
          <a:xfrm>
            <a:off x="428760" y="214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Text Box 1030"/>
          <p:cNvSpPr/>
          <p:nvPr/>
        </p:nvSpPr>
        <p:spPr>
          <a:xfrm>
            <a:off x="0" y="5715000"/>
            <a:ext cx="728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6699"/>
                </a:solidFill>
                <a:latin typeface="Gill Sans MT"/>
              </a:rPr>
              <a:t>Dirección Nacional de  Educació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6699"/>
                </a:solidFill>
                <a:latin typeface="Gill Sans MT"/>
              </a:rPr>
              <a:t>Gerencia de Programas Complementario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3" name="Picture 14" descr="C:\Documents and Settings\MFranco\Mis documentos\Educación de Adultos\AÑO 2010\LOGO.JPG"/>
          <p:cNvPicPr/>
          <p:nvPr/>
        </p:nvPicPr>
        <p:blipFill>
          <a:blip r:embed="rId2"/>
          <a:stretch/>
        </p:blipFill>
        <p:spPr>
          <a:xfrm>
            <a:off x="7345440" y="0"/>
            <a:ext cx="1798560" cy="11127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85920"/>
            <a:ext cx="8229600" cy="73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666699"/>
                </a:solidFill>
                <a:latin typeface="Times New Roman"/>
              </a:rPr>
              <a:t>Cambios sustanciales en el nuevo diseño curricular para Alfabetización y continuidad Educativa</a:t>
            </a:r>
            <a:r>
              <a:rPr b="0" lang="es-SV" sz="4000" spc="-1" strike="noStrike">
                <a:solidFill>
                  <a:srgbClr val="666699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9284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Diferentes entradas y salidas curriculares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Para personas que solamente se quieran alfabetiza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Para personas que deseen continuar su proceso de formación académic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Variedad de temas a tratar que responden a las necesidades, intereses, motivaciones, capacidades y aspiraciones de los y las participantes participant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Atención a la población en condiciones de encierro, las personas con necesidades educativas especiales y los pueblos originari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666699"/>
                </a:solidFill>
                <a:latin typeface="Times New Roman"/>
              </a:rPr>
              <a:t>Acciones de mejora para modalidades Flexibles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0040" y="11430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000000"/>
                </a:solidFill>
                <a:latin typeface="Arial"/>
              </a:rPr>
              <a:t>Se dispone de una investigación cualitativa de los aprendizajes en la asignatura de lenguaje para modalidades flexib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3 Diagrama" descr=""/>
          <p:cNvPicPr/>
          <p:nvPr/>
        </p:nvPicPr>
        <p:blipFill>
          <a:blip r:embed="rId1"/>
          <a:stretch/>
        </p:blipFill>
        <p:spPr>
          <a:xfrm>
            <a:off x="781200" y="1779480"/>
            <a:ext cx="7441920" cy="2799000"/>
          </a:xfrm>
          <a:prstGeom prst="rect">
            <a:avLst/>
          </a:prstGeom>
          <a:ln w="0">
            <a:noFill/>
          </a:ln>
        </p:spPr>
      </p:pic>
      <p:sp>
        <p:nvSpPr>
          <p:cNvPr id="233" name="4 Rectángulo"/>
          <p:cNvSpPr/>
          <p:nvPr/>
        </p:nvSpPr>
        <p:spPr>
          <a:xfrm>
            <a:off x="1835280" y="4437000"/>
            <a:ext cx="6094440" cy="228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5 CuadroTexto"/>
          <p:cNvSpPr/>
          <p:nvPr/>
        </p:nvSpPr>
        <p:spPr>
          <a:xfrm>
            <a:off x="1979640" y="4500720"/>
            <a:ext cx="590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Gill Sans MT"/>
              </a:rPr>
              <a:t>5 INDIC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Gill Sans MT"/>
              </a:rPr>
              <a:t>17 INDICADOR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Gill Sans MT"/>
              </a:rPr>
              <a:t>Resultados de aprendizaje del estudiante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Gill Sans MT"/>
              </a:rPr>
              <a:t>Desempeño del docent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Gill Sans MT"/>
              </a:rPr>
              <a:t>Gestión Institucional. (planificación, permanencia, certificación, contratación de docentes, registro académico)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Gill Sans MT"/>
              </a:rPr>
              <a:t>Satisfació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Gill Sans MT"/>
              </a:rPr>
              <a:t>Equidad e igualdad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235" name="7 Conector angular"/>
          <p:cNvCxnSpPr/>
          <p:nvPr/>
        </p:nvCxnSpPr>
        <p:spPr>
          <a:xfrm flipH="1" rot="16200000">
            <a:off x="5070960" y="4142880"/>
            <a:ext cx="786600" cy="72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headEnd len="med" type="arrow" w="med"/>
            <a:tailEnd len="med" type="arrow" w="med"/>
          </a:ln>
        </p:spPr>
      </p:cxnSp>
    </p:spTree>
  </p:cSld>
  <p:transition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2143080" y="1377360"/>
            <a:ext cx="6500880" cy="45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ículo y Materiales Educativos Pertinentes para la Población Joven y Adult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ción y Actualización de Educadores y Educadoras de Jóvenes y Adulto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cación para la Vida y el Trabaj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o y Permanencia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alecimiento Instituciona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eo, Seguimiento y Evaluación para garantizar el mejoramiento continuo de los servicio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1714680" y="5040"/>
            <a:ext cx="7429320" cy="10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544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3. Líneas Estratégicas  de las Modalidades Flexibles de Educación (2010-2014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38" name="4 CuadroTexto"/>
          <p:cNvGrpSpPr/>
          <p:nvPr/>
        </p:nvGrpSpPr>
        <p:grpSpPr>
          <a:xfrm>
            <a:off x="907920" y="341280"/>
            <a:ext cx="7461360" cy="1620000"/>
            <a:chOff x="907920" y="341280"/>
            <a:chExt cx="7461360" cy="1620000"/>
          </a:xfrm>
        </p:grpSpPr>
        <p:pic>
          <p:nvPicPr>
            <p:cNvPr id="239" name="4 CuadroTexto" descr=""/>
            <p:cNvPicPr/>
            <p:nvPr/>
          </p:nvPicPr>
          <p:blipFill>
            <a:blip r:embed="rId1"/>
            <a:stretch/>
          </p:blipFill>
          <p:spPr>
            <a:xfrm>
              <a:off x="907920" y="341280"/>
              <a:ext cx="746136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928800" y="357120"/>
              <a:ext cx="7429320" cy="160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501480" indent="-228600">
                <a:lnSpc>
                  <a:spcPct val="100000"/>
                </a:lnSpc>
                <a:buClr>
                  <a:srgbClr val="95b3d7"/>
                </a:buClr>
                <a:buSzPct val="125000"/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227160" indent="-2271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SV" sz="2400" spc="-1" strike="noStrike">
                  <a:solidFill>
                    <a:srgbClr val="bf7300"/>
                  </a:solidFill>
                  <a:latin typeface="Arial"/>
                </a:rPr>
                <a:t>Definición de Líneas Estratégicas para Modalidades Flexible:</a:t>
              </a:r>
              <a:endParaRPr b="0" lang="en-US" sz="24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227160" indent="-227160">
                <a:lnSpc>
                  <a:spcPct val="100000"/>
                </a:lnSpc>
                <a:buClr>
                  <a:srgbClr val="95b3d7"/>
                </a:buClr>
                <a:buSzPct val="125000"/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227160" indent="-227160">
                <a:lnSpc>
                  <a:spcPct val="100000"/>
                </a:lnSpc>
                <a:buClr>
                  <a:srgbClr val="95b3d7"/>
                </a:buClr>
                <a:buSzPct val="12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pic>
        <p:nvPicPr>
          <p:cNvPr id="241" name="Picture 2" descr="E:\MisDocu\Diseño\FORTALECIMIENTO EDUCAME 4\mujer e hijo.jpg"/>
          <p:cNvPicPr/>
          <p:nvPr/>
        </p:nvPicPr>
        <p:blipFill>
          <a:blip r:embed="rId2"/>
          <a:stretch/>
        </p:blipFill>
        <p:spPr>
          <a:xfrm>
            <a:off x="0" y="4218120"/>
            <a:ext cx="1847880" cy="204300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3 Rectángulo"/>
          <p:cNvSpPr/>
          <p:nvPr/>
        </p:nvSpPr>
        <p:spPr>
          <a:xfrm>
            <a:off x="868680" y="2286000"/>
            <a:ext cx="7198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6000" spc="-1" strike="noStrike">
                <a:solidFill>
                  <a:srgbClr val="57448c"/>
                </a:solidFill>
                <a:latin typeface="Franklin Gothic Demi"/>
              </a:rPr>
              <a:t>MUCHAS  GRACIAS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6000" spc="-1" strike="noStrike">
                <a:solidFill>
                  <a:srgbClr val="57448c"/>
                </a:solidFill>
                <a:latin typeface="Franklin Gothic Demi"/>
              </a:rPr>
              <a:t>POR SU ATENCIÓN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02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600" spc="-1" strike="noStrike">
                <a:solidFill>
                  <a:srgbClr val="000000"/>
                </a:solidFill>
                <a:latin typeface="GillSans"/>
              </a:rPr>
              <a:t>PROGRAMAS PARA POBLACION JOVEN Y ADULTA </a:t>
            </a:r>
            <a:endParaRPr b="0" lang="en-US" sz="36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5" name="3 Pergamino vertical"/>
          <p:cNvSpPr/>
          <p:nvPr/>
        </p:nvSpPr>
        <p:spPr>
          <a:xfrm>
            <a:off x="1000080" y="1785960"/>
            <a:ext cx="7572600" cy="1357200"/>
          </a:xfrm>
          <a:prstGeom prst="vertic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4 CuadroTexto"/>
          <p:cNvSpPr/>
          <p:nvPr/>
        </p:nvSpPr>
        <p:spPr>
          <a:xfrm>
            <a:off x="1071720" y="2071800"/>
            <a:ext cx="721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600" spc="-1" strike="noStrike">
                <a:solidFill>
                  <a:srgbClr val="000000"/>
                </a:solidFill>
                <a:latin typeface="Gill Sans MT"/>
              </a:rPr>
              <a:t>1ALFABETIZACION  Y CONTINUIDAD EDUCATIVA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6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5 Pergamino horizontal"/>
          <p:cNvSpPr/>
          <p:nvPr/>
        </p:nvSpPr>
        <p:spPr>
          <a:xfrm>
            <a:off x="857160" y="4000680"/>
            <a:ext cx="7643880" cy="1785600"/>
          </a:xfrm>
          <a:prstGeom prst="horizont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6 CuadroTexto"/>
          <p:cNvSpPr/>
          <p:nvPr/>
        </p:nvSpPr>
        <p:spPr>
          <a:xfrm>
            <a:off x="1214280" y="428616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000000"/>
                </a:solidFill>
                <a:latin typeface="Gill Sans MT"/>
              </a:rPr>
              <a:t>II. MODALIDADES FLEXIB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26920" y="135684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6699"/>
                </a:solidFill>
                <a:latin typeface="Gill Sans Ultra Bold Condensed"/>
              </a:rPr>
              <a:t>Plan Nacional de Alfabet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6699"/>
                </a:solidFill>
                <a:latin typeface="Gill Sans Ultra Bold Condensed"/>
              </a:rPr>
              <a:t>“</a:t>
            </a:r>
            <a:r>
              <a:rPr b="0" lang="es-ES" sz="3200" spc="-1" strike="noStrike">
                <a:solidFill>
                  <a:srgbClr val="666699"/>
                </a:solidFill>
                <a:latin typeface="Gill Sans Ultra Bold Condensed"/>
              </a:rPr>
              <a:t>Educando para la Vid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282600" y="96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510480" y="9601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47640" y="189000"/>
          <a:ext cx="6096240" cy="1020600"/>
        </p:xfrm>
        <a:graphic>
          <a:graphicData uri="http://schemas.openxmlformats.org/drawingml/2006/table">
            <a:tbl>
              <a:tblPr/>
              <a:tblGrid>
                <a:gridCol w="1186200"/>
                <a:gridCol w="3539880"/>
                <a:gridCol w="1370160"/>
              </a:tblGrid>
              <a:tr h="1706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8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Ministerio de Educación de El Salvad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3" name="Imagen 2" descr="escudo"/>
          <p:cNvPicPr/>
          <p:nvPr/>
        </p:nvPicPr>
        <p:blipFill>
          <a:blip r:embed="rId1"/>
          <a:stretch/>
        </p:blipFill>
        <p:spPr>
          <a:xfrm>
            <a:off x="0" y="0"/>
            <a:ext cx="1428840" cy="12142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3"/>
          <p:cNvSpPr/>
          <p:nvPr/>
        </p:nvSpPr>
        <p:spPr>
          <a:xfrm>
            <a:off x="428760" y="214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5" name="Picture 14" descr="C:\Documents and Settings\MFranco\Mis documentos\Educación de Adultos\AÑO 2010\LOGO.JPG"/>
          <p:cNvPicPr/>
          <p:nvPr/>
        </p:nvPicPr>
        <p:blipFill>
          <a:blip r:embed="rId2"/>
          <a:stretch/>
        </p:blipFill>
        <p:spPr>
          <a:xfrm>
            <a:off x="7345440" y="0"/>
            <a:ext cx="1798560" cy="1112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I:\FOTOS ALFABETIZACION\IMG_7229.JPG"/>
          <p:cNvPicPr/>
          <p:nvPr/>
        </p:nvPicPr>
        <p:blipFill>
          <a:blip r:embed="rId3"/>
          <a:stretch/>
        </p:blipFill>
        <p:spPr>
          <a:xfrm>
            <a:off x="4429080" y="2428920"/>
            <a:ext cx="4500720" cy="2571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7" descr="I:\FOTOS ALFABETIZACION\IMG_7840.JPG"/>
          <p:cNvPicPr/>
          <p:nvPr/>
        </p:nvPicPr>
        <p:blipFill>
          <a:blip r:embed="rId4"/>
          <a:stretch/>
        </p:blipFill>
        <p:spPr>
          <a:xfrm>
            <a:off x="4500720" y="4357800"/>
            <a:ext cx="4429080" cy="2500200"/>
          </a:xfrm>
          <a:prstGeom prst="rect">
            <a:avLst/>
          </a:prstGeom>
          <a:ln w="0">
            <a:noFill/>
          </a:ln>
        </p:spPr>
      </p:pic>
      <p:sp>
        <p:nvSpPr>
          <p:cNvPr id="118" name="12 CuadroTexto"/>
          <p:cNvSpPr/>
          <p:nvPr/>
        </p:nvSpPr>
        <p:spPr>
          <a:xfrm>
            <a:off x="428760" y="2786040"/>
            <a:ext cx="37144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OBJETIV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Garantizar el derecho a la educación permanente en la población joven y adulta, reduciendo drásticamente el índice de analfabetismo, asegurando la continuidad educativa desde un enfoque flexible, inclusivo, de equidad y calidad, que permita su integración efectiva a los procesos de desarrollo social, económico, cultural y político, promoviendo la participación de todos los sectores de la sociedad salvadoreñ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E:\MisDocu\Diseño\presentacion ministro\fondo.jpg"/>
          <p:cNvPicPr/>
          <p:nvPr/>
        </p:nvPicPr>
        <p:blipFill>
          <a:blip r:embed="rId1"/>
          <a:stretch/>
        </p:blipFill>
        <p:spPr>
          <a:xfrm>
            <a:off x="35712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4"/>
          <p:cNvSpPr/>
          <p:nvPr/>
        </p:nvSpPr>
        <p:spPr>
          <a:xfrm>
            <a:off x="2571840" y="3600"/>
            <a:ext cx="6072120" cy="10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544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Modalidades Flexibles de Educa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21" name="Picture 5" descr="E:\desk\collage.jpg"/>
          <p:cNvPicPr/>
          <p:nvPr/>
        </p:nvPicPr>
        <p:blipFill>
          <a:blip r:embed="rId2"/>
          <a:stretch/>
        </p:blipFill>
        <p:spPr>
          <a:xfrm>
            <a:off x="2214720" y="2952720"/>
            <a:ext cx="5597280" cy="3594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2" name="7 CuadroTexto"/>
          <p:cNvSpPr/>
          <p:nvPr/>
        </p:nvSpPr>
        <p:spPr>
          <a:xfrm>
            <a:off x="428760" y="1335240"/>
            <a:ext cx="835812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OBJETIV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Ofrecer servicios educativos gratuitos a los jóvenes y adultos de 15 años de edad y más, que abandonaron sus estudios por diversas circunstancias y desean completar el tercer ciclo de educación básica, el bachillerato general, bachillerato técnico vocacional o cursos de capacitación para el trabajo.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666699"/>
                </a:solidFill>
                <a:latin typeface="Times New Roman"/>
              </a:rPr>
              <a:t>Niveles académicos de Alfabetización y Continuidad Educativa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pic>
        <p:nvPicPr>
          <p:cNvPr id="124" name="3 Marcador de contenido" descr=""/>
          <p:cNvPicPr/>
          <p:nvPr/>
        </p:nvPicPr>
        <p:blipFill>
          <a:blip r:embed="rId1"/>
          <a:stretch/>
        </p:blipFill>
        <p:spPr>
          <a:xfrm>
            <a:off x="317520" y="1511280"/>
            <a:ext cx="86677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16 CuadroTexto"/>
          <p:cNvSpPr/>
          <p:nvPr/>
        </p:nvSpPr>
        <p:spPr>
          <a:xfrm>
            <a:off x="1714680" y="785880"/>
            <a:ext cx="66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ff9900"/>
                </a:solidFill>
                <a:latin typeface="Impact"/>
              </a:rPr>
              <a:t>Implementación de las modalidad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3 CuadroTexto"/>
          <p:cNvSpPr/>
          <p:nvPr/>
        </p:nvSpPr>
        <p:spPr>
          <a:xfrm>
            <a:off x="0" y="1071720"/>
            <a:ext cx="142884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buClr>
                <a:srgbClr val="bf7300"/>
              </a:buClr>
              <a:buSzPct val="125000"/>
              <a:buFont typeface="Gill Sans MT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bf7300"/>
                </a:solidFill>
                <a:latin typeface="Gill Sans MT"/>
              </a:rPr>
              <a:t>Modalidades Flexibles de Educación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buClr>
                <a:srgbClr val="95b3d7"/>
              </a:buClr>
              <a:buSzPct val="125000"/>
              <a:buFont typeface="Gill Sans MT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buClr>
                <a:srgbClr val="95b3d7"/>
              </a:buClr>
              <a:buSzPct val="125000"/>
              <a:buFont typeface="Gill Sans MT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buClr>
                <a:srgbClr val="95b3d7"/>
              </a:buClr>
              <a:buSzPct val="125000"/>
              <a:buFont typeface="Gill Sans MT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buClr>
                <a:srgbClr val="95b3d7"/>
              </a:buClr>
              <a:buSzPct val="125000"/>
              <a:buFont typeface="Gill Sans MT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27" name="Picture 4" descr="E:\MisDocu\Diseño\INFORME DE GESTIÓN INSTITUCIONAL\Iglesia Parroquial de Ilobasco 8.png"/>
          <p:cNvPicPr/>
          <p:nvPr/>
        </p:nvPicPr>
        <p:blipFill>
          <a:blip r:embed="rId1"/>
          <a:stretch/>
        </p:blipFill>
        <p:spPr>
          <a:xfrm>
            <a:off x="6624720" y="3071880"/>
            <a:ext cx="2519280" cy="3357360"/>
          </a:xfrm>
          <a:prstGeom prst="rect">
            <a:avLst/>
          </a:prstGeom>
          <a:ln w="0">
            <a:noFill/>
          </a:ln>
        </p:spPr>
      </p:pic>
      <p:grpSp>
        <p:nvGrpSpPr>
          <p:cNvPr id="128" name="AutoShape 26"/>
          <p:cNvGrpSpPr/>
          <p:nvPr/>
        </p:nvGrpSpPr>
        <p:grpSpPr>
          <a:xfrm>
            <a:off x="2876400" y="2975040"/>
            <a:ext cx="2670480" cy="3060720"/>
            <a:chOff x="2876400" y="2975040"/>
            <a:chExt cx="2670480" cy="3060720"/>
          </a:xfrm>
        </p:grpSpPr>
        <p:pic>
          <p:nvPicPr>
            <p:cNvPr id="129" name="AutoShape 26" descr=""/>
            <p:cNvPicPr/>
            <p:nvPr/>
          </p:nvPicPr>
          <p:blipFill>
            <a:blip r:embed="rId2"/>
            <a:stretch/>
          </p:blipFill>
          <p:spPr>
            <a:xfrm>
              <a:off x="2876400" y="2975040"/>
              <a:ext cx="2670480" cy="30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 rot="1800000">
              <a:off x="3230280" y="3635280"/>
              <a:ext cx="1968480" cy="170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131" name="Text Box 5"/>
          <p:cNvGrpSpPr/>
          <p:nvPr/>
        </p:nvGrpSpPr>
        <p:grpSpPr>
          <a:xfrm>
            <a:off x="3511440" y="2548080"/>
            <a:ext cx="1163880" cy="420480"/>
            <a:chOff x="3511440" y="2548080"/>
            <a:chExt cx="1163880" cy="420480"/>
          </a:xfrm>
        </p:grpSpPr>
        <p:pic>
          <p:nvPicPr>
            <p:cNvPr id="132" name="Text Box 5" descr=""/>
            <p:cNvPicPr/>
            <p:nvPr/>
          </p:nvPicPr>
          <p:blipFill>
            <a:blip r:embed="rId3"/>
            <a:stretch/>
          </p:blipFill>
          <p:spPr>
            <a:xfrm>
              <a:off x="3511440" y="2548080"/>
              <a:ext cx="116388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3584160" y="2587680"/>
              <a:ext cx="103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Acelerada</a:t>
              </a:r>
              <a:endParaRPr b="0" lang="en-US" sz="1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134" name="AutoShape 6"/>
          <p:cNvGrpSpPr/>
          <p:nvPr/>
        </p:nvGrpSpPr>
        <p:grpSpPr>
          <a:xfrm>
            <a:off x="3054240" y="3144960"/>
            <a:ext cx="2359080" cy="2701800"/>
            <a:chOff x="3054240" y="3144960"/>
            <a:chExt cx="2359080" cy="2701800"/>
          </a:xfrm>
        </p:grpSpPr>
        <p:pic>
          <p:nvPicPr>
            <p:cNvPr id="135" name="AutoShape 6" descr=""/>
            <p:cNvPicPr/>
            <p:nvPr/>
          </p:nvPicPr>
          <p:blipFill>
            <a:blip r:embed="rId4"/>
            <a:stretch/>
          </p:blipFill>
          <p:spPr>
            <a:xfrm>
              <a:off x="3054240" y="3144960"/>
              <a:ext cx="2359080" cy="27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 rot="1800000">
              <a:off x="3373200" y="3727080"/>
              <a:ext cx="1728720" cy="14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137" name="Text Box 7"/>
          <p:cNvGrpSpPr/>
          <p:nvPr/>
        </p:nvGrpSpPr>
        <p:grpSpPr>
          <a:xfrm>
            <a:off x="5694480" y="3352680"/>
            <a:ext cx="1919160" cy="420840"/>
            <a:chOff x="5694480" y="3352680"/>
            <a:chExt cx="1919160" cy="420840"/>
          </a:xfrm>
        </p:grpSpPr>
        <p:pic>
          <p:nvPicPr>
            <p:cNvPr id="138" name="Text Box 7" descr=""/>
            <p:cNvPicPr/>
            <p:nvPr/>
          </p:nvPicPr>
          <p:blipFill>
            <a:blip r:embed="rId5"/>
            <a:stretch/>
          </p:blipFill>
          <p:spPr>
            <a:xfrm>
              <a:off x="5694480" y="3352680"/>
              <a:ext cx="191916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768280" y="3389400"/>
              <a:ext cx="178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Escuelas Nocturna</a:t>
              </a:r>
              <a:endParaRPr b="0" lang="en-US" sz="1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140" name="Text Box 8"/>
          <p:cNvGrpSpPr/>
          <p:nvPr/>
        </p:nvGrpSpPr>
        <p:grpSpPr>
          <a:xfrm>
            <a:off x="1407960" y="3249720"/>
            <a:ext cx="1621080" cy="420480"/>
            <a:chOff x="1407960" y="3249720"/>
            <a:chExt cx="1621080" cy="420480"/>
          </a:xfrm>
        </p:grpSpPr>
        <p:pic>
          <p:nvPicPr>
            <p:cNvPr id="141" name="Text Box 8" descr=""/>
            <p:cNvPicPr/>
            <p:nvPr/>
          </p:nvPicPr>
          <p:blipFill>
            <a:blip r:embed="rId6"/>
            <a:stretch/>
          </p:blipFill>
          <p:spPr>
            <a:xfrm>
              <a:off x="1407960" y="3249720"/>
              <a:ext cx="162108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480680" y="3286080"/>
              <a:ext cx="148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Semipresencial</a:t>
              </a:r>
              <a:endParaRPr b="0" lang="en-US" sz="1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143" name="Text Box 9"/>
          <p:cNvGrpSpPr/>
          <p:nvPr/>
        </p:nvGrpSpPr>
        <p:grpSpPr>
          <a:xfrm>
            <a:off x="1646280" y="5462640"/>
            <a:ext cx="1322280" cy="633240"/>
            <a:chOff x="1646280" y="5462640"/>
            <a:chExt cx="1322280" cy="633240"/>
          </a:xfrm>
        </p:grpSpPr>
        <p:pic>
          <p:nvPicPr>
            <p:cNvPr id="144" name="Text Box 9" descr=""/>
            <p:cNvPicPr/>
            <p:nvPr/>
          </p:nvPicPr>
          <p:blipFill>
            <a:blip r:embed="rId7"/>
            <a:stretch/>
          </p:blipFill>
          <p:spPr>
            <a:xfrm>
              <a:off x="1646280" y="5462640"/>
              <a:ext cx="13222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714680" y="5500800"/>
              <a:ext cx="120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A Distancia </a:t>
              </a:r>
              <a:endParaRPr b="0" lang="en-US" sz="14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Tradicional</a:t>
              </a:r>
              <a:endParaRPr b="0" lang="en-US" sz="1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146" name="Text Box 10"/>
          <p:cNvGrpSpPr/>
          <p:nvPr/>
        </p:nvGrpSpPr>
        <p:grpSpPr>
          <a:xfrm>
            <a:off x="5694480" y="5175360"/>
            <a:ext cx="2243160" cy="420480"/>
            <a:chOff x="5694480" y="5175360"/>
            <a:chExt cx="2243160" cy="420480"/>
          </a:xfrm>
        </p:grpSpPr>
        <p:pic>
          <p:nvPicPr>
            <p:cNvPr id="147" name="Text Box 10" descr=""/>
            <p:cNvPicPr/>
            <p:nvPr/>
          </p:nvPicPr>
          <p:blipFill>
            <a:blip r:embed="rId8"/>
            <a:stretch/>
          </p:blipFill>
          <p:spPr>
            <a:xfrm>
              <a:off x="5694480" y="5175360"/>
              <a:ext cx="224316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762520" y="5216400"/>
              <a:ext cx="212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“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Bachillerato Virtual”</a:t>
              </a:r>
              <a:endParaRPr b="0" lang="en-US" sz="1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149" name="Text Box 11"/>
          <p:cNvGrpSpPr/>
          <p:nvPr/>
        </p:nvGrpSpPr>
        <p:grpSpPr>
          <a:xfrm>
            <a:off x="3449520" y="6046920"/>
            <a:ext cx="2268720" cy="420480"/>
            <a:chOff x="3449520" y="6046920"/>
            <a:chExt cx="2268720" cy="420480"/>
          </a:xfrm>
        </p:grpSpPr>
        <p:pic>
          <p:nvPicPr>
            <p:cNvPr id="150" name="Text Box 11" descr=""/>
            <p:cNvPicPr/>
            <p:nvPr/>
          </p:nvPicPr>
          <p:blipFill>
            <a:blip r:embed="rId9"/>
            <a:stretch/>
          </p:blipFill>
          <p:spPr>
            <a:xfrm>
              <a:off x="3449520" y="6046920"/>
              <a:ext cx="226872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3527640" y="6087960"/>
              <a:ext cx="213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ruebas de Suficiencia</a:t>
              </a:r>
              <a:endParaRPr b="0" lang="en-US" sz="1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52" name="Oval 13"/>
          <p:cNvSpPr/>
          <p:nvPr/>
        </p:nvSpPr>
        <p:spPr>
          <a:xfrm>
            <a:off x="3014640" y="5079960"/>
            <a:ext cx="144360" cy="14436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Oval 14"/>
          <p:cNvSpPr/>
          <p:nvPr/>
        </p:nvSpPr>
        <p:spPr>
          <a:xfrm>
            <a:off x="3014640" y="3784680"/>
            <a:ext cx="144360" cy="1443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Oval 15"/>
          <p:cNvSpPr/>
          <p:nvPr/>
        </p:nvSpPr>
        <p:spPr>
          <a:xfrm>
            <a:off x="4146480" y="31370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Oval 16"/>
          <p:cNvSpPr/>
          <p:nvPr/>
        </p:nvSpPr>
        <p:spPr>
          <a:xfrm>
            <a:off x="5246640" y="3784680"/>
            <a:ext cx="144360" cy="144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Oval 17"/>
          <p:cNvSpPr/>
          <p:nvPr/>
        </p:nvSpPr>
        <p:spPr>
          <a:xfrm>
            <a:off x="5245200" y="5078520"/>
            <a:ext cx="145800" cy="145800"/>
          </a:xfrm>
          <a:prstGeom prst="ellipse">
            <a:avLst/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Oval 18"/>
          <p:cNvSpPr/>
          <p:nvPr/>
        </p:nvSpPr>
        <p:spPr>
          <a:xfrm>
            <a:off x="4145040" y="5729400"/>
            <a:ext cx="145800" cy="1458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158" name="AutoShape 19"/>
          <p:cNvCxnSpPr/>
          <p:nvPr/>
        </p:nvCxnSpPr>
        <p:spPr>
          <a:xfrm flipH="1" flipV="1" rot="5400000">
            <a:off x="2491200" y="4977360"/>
            <a:ext cx="348480" cy="699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AutoShape 20"/>
          <p:cNvCxnSpPr/>
          <p:nvPr/>
        </p:nvCxnSpPr>
        <p:spPr>
          <a:xfrm flipH="1" rot="16200000">
            <a:off x="2488320" y="3331080"/>
            <a:ext cx="264240" cy="789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AutoShape 21"/>
          <p:cNvCxnSpPr/>
          <p:nvPr/>
        </p:nvCxnSpPr>
        <p:spPr>
          <a:xfrm flipV="1" rot="16200000">
            <a:off x="4127040" y="3044160"/>
            <a:ext cx="183600" cy="2160"/>
          </a:xfrm>
          <a:prstGeom prst="bentConnector3">
            <a:avLst>
              <a:gd name="adj1" fmla="val 50294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61" name="AutoShape 22"/>
          <p:cNvCxnSpPr/>
          <p:nvPr/>
        </p:nvCxnSpPr>
        <p:spPr>
          <a:xfrm flipH="1">
            <a:off x="4217400" y="587484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62" name="AutoShape 23"/>
          <p:cNvCxnSpPr/>
          <p:nvPr/>
        </p:nvCxnSpPr>
        <p:spPr>
          <a:xfrm flipV="1">
            <a:off x="5391000" y="3573000"/>
            <a:ext cx="372240" cy="285120"/>
          </a:xfrm>
          <a:prstGeom prst="bentConnector3">
            <a:avLst>
              <a:gd name="adj1" fmla="val 49564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63" name="AutoShape 24"/>
          <p:cNvCxnSpPr/>
          <p:nvPr/>
        </p:nvCxnSpPr>
        <p:spPr>
          <a:xfrm>
            <a:off x="5391000" y="5151600"/>
            <a:ext cx="372240" cy="249840"/>
          </a:xfrm>
          <a:prstGeom prst="bentConnector3">
            <a:avLst>
              <a:gd name="adj1" fmla="val 49951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666699"/>
                </a:solidFill>
                <a:latin typeface="Times New Roman"/>
              </a:rPr>
              <a:t>Medidas para mejorar y controlar la calidad de aprendizajes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</p:txBody>
      </p:sp>
      <p:pic>
        <p:nvPicPr>
          <p:cNvPr id="165" name="5 Marcador de contenido" descr=""/>
          <p:cNvPicPr/>
          <p:nvPr/>
        </p:nvPicPr>
        <p:blipFill>
          <a:blip r:embed="rId1"/>
          <a:stretch/>
        </p:blipFill>
        <p:spPr>
          <a:xfrm>
            <a:off x="268200" y="633240"/>
            <a:ext cx="8266320" cy="587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/>
          <p:cNvSpPr/>
          <p:nvPr/>
        </p:nvSpPr>
        <p:spPr>
          <a:xfrm>
            <a:off x="2500200" y="2849400"/>
            <a:ext cx="1785960" cy="2079720"/>
          </a:xfrm>
          <a:custGeom>
            <a:avLst/>
            <a:gdLst>
              <a:gd name="textAreaLeft" fmla="*/ 71640 w 1785960"/>
              <a:gd name="textAreaRight" fmla="*/ 1714320 w 1785960"/>
              <a:gd name="textAreaTop" fmla="*/ 71640 h 2079720"/>
              <a:gd name="textAreaBottom" fmla="*/ 2008080 h 2079720"/>
            </a:gdLst>
            <a:ahLst/>
            <a:rect l="textAreaLeft" t="textAreaTop" r="textAreaRight" b="textAreaBottom"/>
            <a:pathLst>
              <a:path w="21600" h="25152">
                <a:moveTo>
                  <a:pt x="2969" y="0"/>
                </a:moveTo>
                <a:arcTo wR="2969" hR="2969" stAng="16200000" swAng="-5400000"/>
                <a:lnTo>
                  <a:pt x="0" y="22183"/>
                </a:lnTo>
                <a:arcTo wR="2969" hR="2969" stAng="10800000" swAng="-5400000"/>
                <a:lnTo>
                  <a:pt x="18631" y="2515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600" spc="-1" strike="noStrike">
                <a:solidFill>
                  <a:srgbClr val="666699"/>
                </a:solidFill>
                <a:latin typeface="Verdana"/>
              </a:rPr>
              <a:t>Se aprende cada día una nueva letra o fonema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428760" y="2857680"/>
            <a:ext cx="1714320" cy="2079360"/>
          </a:xfrm>
          <a:custGeom>
            <a:avLst/>
            <a:gdLst>
              <a:gd name="textAreaLeft" fmla="*/ 68760 w 1714320"/>
              <a:gd name="textAreaRight" fmla="*/ 1645560 w 1714320"/>
              <a:gd name="textAreaTop" fmla="*/ 68760 h 2079360"/>
              <a:gd name="textAreaBottom" fmla="*/ 2010600 h 2079360"/>
            </a:gdLst>
            <a:ahLst/>
            <a:rect l="textAreaLeft" t="textAreaTop" r="textAreaRight" b="textAreaBottom"/>
            <a:pathLst>
              <a:path w="21600" h="26198">
                <a:moveTo>
                  <a:pt x="2969" y="0"/>
                </a:moveTo>
                <a:arcTo wR="2969" hR="2969" stAng="16200000" swAng="-5400000"/>
                <a:lnTo>
                  <a:pt x="0" y="23229"/>
                </a:lnTo>
                <a:arcTo wR="2969" hR="2969" stAng="10800000" swAng="-5400000"/>
                <a:lnTo>
                  <a:pt x="18631" y="2619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600" spc="-1" strike="noStrike">
                <a:solidFill>
                  <a:srgbClr val="666699"/>
                </a:solidFill>
                <a:latin typeface="Verdana"/>
              </a:rPr>
              <a:t>Se prepara para aprender    a leer y escribir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4714920" y="2928960"/>
            <a:ext cx="2000160" cy="200016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600" spc="-1" strike="noStrike">
                <a:solidFill>
                  <a:srgbClr val="666699"/>
                </a:solidFill>
                <a:latin typeface="Verdana"/>
              </a:rPr>
              <a:t>Se profundizan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600" spc="-1" strike="noStrike">
                <a:solidFill>
                  <a:srgbClr val="666699"/>
                </a:solidFill>
                <a:latin typeface="Verdana"/>
              </a:rPr>
              <a:t>los conocimientos de lectura y cálculo                    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85600" y="147240"/>
            <a:ext cx="732924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Etapas del Método de Alfabetización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2428920" y="1500120"/>
            <a:ext cx="399960" cy="449280"/>
          </a:xfrm>
          <a:custGeom>
            <a:avLst/>
            <a:gdLst>
              <a:gd name="textAreaLeft" fmla="*/ 0 w 399960"/>
              <a:gd name="textAreaRight" fmla="*/ 400320 w 3999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4572000" y="142884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4857840" y="714240"/>
            <a:ext cx="1703160" cy="506520"/>
          </a:xfrm>
          <a:prstGeom prst="ellipse">
            <a:avLst/>
          </a:prstGeom>
          <a:gradFill rotWithShape="0">
            <a:gsLst>
              <a:gs pos="0">
                <a:srgbClr val="666699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5072040" y="857160"/>
            <a:ext cx="1481040" cy="506520"/>
          </a:xfrm>
          <a:prstGeom prst="ellipse">
            <a:avLst/>
          </a:prstGeom>
          <a:gradFill rotWithShape="0">
            <a:gsLst>
              <a:gs pos="0">
                <a:srgbClr val="373753"/>
              </a:gs>
              <a:gs pos="50000">
                <a:srgbClr val="666699"/>
              </a:gs>
              <a:gs pos="100000">
                <a:srgbClr val="37375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5072040" y="857160"/>
            <a:ext cx="1481040" cy="506520"/>
          </a:xfrm>
          <a:prstGeom prst="ellipse">
            <a:avLst/>
          </a:prstGeom>
          <a:solidFill>
            <a:srgbClr val="e0e0e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7072200" y="714240"/>
            <a:ext cx="1335240" cy="5065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1295280" y="1019160"/>
            <a:ext cx="235080" cy="507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999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1295280" y="1019160"/>
            <a:ext cx="235080" cy="507960"/>
          </a:xfrm>
          <a:prstGeom prst="ellipse">
            <a:avLst/>
          </a:prstGeom>
          <a:gradFill rotWithShape="0">
            <a:gsLst>
              <a:gs pos="0">
                <a:srgbClr val="99996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Oval 15"/>
          <p:cNvSpPr/>
          <p:nvPr/>
        </p:nvSpPr>
        <p:spPr>
          <a:xfrm>
            <a:off x="714240" y="1000080"/>
            <a:ext cx="1481400" cy="506520"/>
          </a:xfrm>
          <a:prstGeom prst="ellipse">
            <a:avLst/>
          </a:prstGeom>
          <a:gradFill rotWithShape="0">
            <a:gsLst>
              <a:gs pos="0">
                <a:srgbClr val="535337"/>
              </a:gs>
              <a:gs pos="50000">
                <a:srgbClr val="999966"/>
              </a:gs>
              <a:gs pos="100000">
                <a:srgbClr val="53533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Oval 16"/>
          <p:cNvSpPr/>
          <p:nvPr/>
        </p:nvSpPr>
        <p:spPr>
          <a:xfrm>
            <a:off x="785880" y="857160"/>
            <a:ext cx="1481040" cy="506520"/>
          </a:xfrm>
          <a:prstGeom prst="ellipse">
            <a:avLst/>
          </a:prstGeom>
          <a:solidFill>
            <a:srgbClr val="e5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Oval 17"/>
          <p:cNvSpPr/>
          <p:nvPr/>
        </p:nvSpPr>
        <p:spPr>
          <a:xfrm>
            <a:off x="785880" y="714240"/>
            <a:ext cx="1404720" cy="5065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81" name="Group 18"/>
          <p:cNvGrpSpPr/>
          <p:nvPr/>
        </p:nvGrpSpPr>
        <p:grpSpPr>
          <a:xfrm>
            <a:off x="785880" y="928800"/>
            <a:ext cx="1357200" cy="1276200"/>
            <a:chOff x="785880" y="928800"/>
            <a:chExt cx="1357200" cy="1276200"/>
          </a:xfrm>
        </p:grpSpPr>
        <p:sp>
          <p:nvSpPr>
            <p:cNvPr id="182" name="Oval 19"/>
            <p:cNvSpPr/>
            <p:nvPr/>
          </p:nvSpPr>
          <p:spPr>
            <a:xfrm>
              <a:off x="785880" y="928800"/>
              <a:ext cx="1357200" cy="1276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83" name="Oval 20"/>
            <p:cNvSpPr/>
            <p:nvPr/>
          </p:nvSpPr>
          <p:spPr>
            <a:xfrm>
              <a:off x="802800" y="935640"/>
              <a:ext cx="1324800" cy="12445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84" name="Oval 21"/>
            <p:cNvSpPr/>
            <p:nvPr/>
          </p:nvSpPr>
          <p:spPr>
            <a:xfrm>
              <a:off x="817200" y="947880"/>
              <a:ext cx="1259640" cy="11628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85" name="Oval 22"/>
            <p:cNvSpPr/>
            <p:nvPr/>
          </p:nvSpPr>
          <p:spPr>
            <a:xfrm>
              <a:off x="891000" y="980640"/>
              <a:ext cx="1119600" cy="94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86" name="Oval 23"/>
          <p:cNvSpPr/>
          <p:nvPr/>
        </p:nvSpPr>
        <p:spPr>
          <a:xfrm>
            <a:off x="3759120" y="1023840"/>
            <a:ext cx="235080" cy="506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99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Oval 24"/>
          <p:cNvSpPr/>
          <p:nvPr/>
        </p:nvSpPr>
        <p:spPr>
          <a:xfrm>
            <a:off x="3759120" y="1023840"/>
            <a:ext cx="235080" cy="506520"/>
          </a:xfrm>
          <a:prstGeom prst="ellipse">
            <a:avLst/>
          </a:prstGeom>
          <a:gradFill rotWithShape="0">
            <a:gsLst>
              <a:gs pos="0">
                <a:srgbClr val="ff9900">
                  <a:alpha val="32156"/>
                </a:srgbClr>
              </a:gs>
              <a:gs pos="100000">
                <a:srgbClr val="7647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Oval 25"/>
          <p:cNvSpPr/>
          <p:nvPr/>
        </p:nvSpPr>
        <p:spPr>
          <a:xfrm>
            <a:off x="2857680" y="785880"/>
            <a:ext cx="1481040" cy="506520"/>
          </a:xfrm>
          <a:prstGeom prst="ellipse">
            <a:avLst/>
          </a:prstGeom>
          <a:gradFill rotWithShape="0">
            <a:gsLst>
              <a:gs pos="0">
                <a:srgbClr val="8a5300"/>
              </a:gs>
              <a:gs pos="50000">
                <a:srgbClr val="ff9900"/>
              </a:gs>
              <a:gs pos="100000">
                <a:srgbClr val="8a53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Oval 26"/>
          <p:cNvSpPr/>
          <p:nvPr/>
        </p:nvSpPr>
        <p:spPr>
          <a:xfrm>
            <a:off x="6929280" y="642960"/>
            <a:ext cx="1481400" cy="507960"/>
          </a:xfrm>
          <a:prstGeom prst="ellipse">
            <a:avLst/>
          </a:prstGeom>
          <a:gradFill rotWithShape="0">
            <a:gsLst>
              <a:gs pos="0">
                <a:srgbClr val="a26100"/>
              </a:gs>
              <a:gs pos="100000">
                <a:srgbClr val="ff9900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Oval 27"/>
          <p:cNvSpPr/>
          <p:nvPr/>
        </p:nvSpPr>
        <p:spPr>
          <a:xfrm>
            <a:off x="2928960" y="785880"/>
            <a:ext cx="1333440" cy="5065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1" name="Group 28"/>
          <p:cNvGrpSpPr/>
          <p:nvPr/>
        </p:nvGrpSpPr>
        <p:grpSpPr>
          <a:xfrm>
            <a:off x="2928960" y="928800"/>
            <a:ext cx="1290600" cy="1276200"/>
            <a:chOff x="2928960" y="928800"/>
            <a:chExt cx="1290600" cy="1276200"/>
          </a:xfrm>
        </p:grpSpPr>
        <p:sp>
          <p:nvSpPr>
            <p:cNvPr id="192" name="Oval 29"/>
            <p:cNvSpPr/>
            <p:nvPr/>
          </p:nvSpPr>
          <p:spPr>
            <a:xfrm>
              <a:off x="2928960" y="928800"/>
              <a:ext cx="1290600" cy="1276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93" name="Oval 30"/>
            <p:cNvSpPr/>
            <p:nvPr/>
          </p:nvSpPr>
          <p:spPr>
            <a:xfrm>
              <a:off x="2945160" y="935640"/>
              <a:ext cx="1259640" cy="12445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94" name="Oval 31"/>
            <p:cNvSpPr/>
            <p:nvPr/>
          </p:nvSpPr>
          <p:spPr>
            <a:xfrm>
              <a:off x="2958840" y="947880"/>
              <a:ext cx="1197720" cy="11628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95" name="Oval 32"/>
            <p:cNvSpPr/>
            <p:nvPr/>
          </p:nvSpPr>
          <p:spPr>
            <a:xfrm>
              <a:off x="3028680" y="980640"/>
              <a:ext cx="1064880" cy="943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196" name="Group 33"/>
          <p:cNvGrpSpPr/>
          <p:nvPr/>
        </p:nvGrpSpPr>
        <p:grpSpPr>
          <a:xfrm>
            <a:off x="5072040" y="1000080"/>
            <a:ext cx="1292400" cy="1276560"/>
            <a:chOff x="5072040" y="1000080"/>
            <a:chExt cx="1292400" cy="1276560"/>
          </a:xfrm>
        </p:grpSpPr>
        <p:sp>
          <p:nvSpPr>
            <p:cNvPr id="197" name="Oval 34"/>
            <p:cNvSpPr/>
            <p:nvPr/>
          </p:nvSpPr>
          <p:spPr>
            <a:xfrm>
              <a:off x="5072040" y="1000080"/>
              <a:ext cx="1292400" cy="127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98" name="Oval 35"/>
            <p:cNvSpPr/>
            <p:nvPr/>
          </p:nvSpPr>
          <p:spPr>
            <a:xfrm>
              <a:off x="5088240" y="1006920"/>
              <a:ext cx="1261440" cy="1244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99" name="Oval 36"/>
            <p:cNvSpPr/>
            <p:nvPr/>
          </p:nvSpPr>
          <p:spPr>
            <a:xfrm>
              <a:off x="5101920" y="1019160"/>
              <a:ext cx="1199520" cy="11631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00" name="Oval 37"/>
            <p:cNvSpPr/>
            <p:nvPr/>
          </p:nvSpPr>
          <p:spPr>
            <a:xfrm>
              <a:off x="5172120" y="1051920"/>
              <a:ext cx="1066320" cy="94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01" name="Text Box 38"/>
          <p:cNvSpPr/>
          <p:nvPr/>
        </p:nvSpPr>
        <p:spPr>
          <a:xfrm>
            <a:off x="714240" y="1357200"/>
            <a:ext cx="150048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400" spc="-1" strike="noStrike">
                <a:solidFill>
                  <a:srgbClr val="000000"/>
                </a:solidFill>
                <a:latin typeface="Calibri"/>
              </a:rPr>
              <a:t>1ra. Etapa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400" spc="-1" strike="noStrike">
                <a:solidFill>
                  <a:srgbClr val="000000"/>
                </a:solidFill>
                <a:latin typeface="Calibri"/>
              </a:rPr>
              <a:t>Preparatori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Text Box 39"/>
          <p:cNvSpPr/>
          <p:nvPr/>
        </p:nvSpPr>
        <p:spPr>
          <a:xfrm>
            <a:off x="2857680" y="1143000"/>
            <a:ext cx="150012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400" spc="-1" strike="noStrike">
                <a:solidFill>
                  <a:srgbClr val="000000"/>
                </a:solidFill>
                <a:latin typeface="Calibri"/>
              </a:rPr>
              <a:t>2da. Etapa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400" spc="-1" strike="noStrike">
                <a:solidFill>
                  <a:srgbClr val="000000"/>
                </a:solidFill>
                <a:latin typeface="Calibri"/>
              </a:rPr>
              <a:t>Aprendizaje de la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400" spc="-1" strike="noStrike">
                <a:solidFill>
                  <a:srgbClr val="000000"/>
                </a:solidFill>
                <a:latin typeface="Calibri"/>
              </a:rPr>
              <a:t>lecto-escritur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Text Box 40"/>
          <p:cNvSpPr/>
          <p:nvPr/>
        </p:nvSpPr>
        <p:spPr>
          <a:xfrm>
            <a:off x="5143680" y="1285920"/>
            <a:ext cx="13572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400" spc="-1" strike="noStrike">
                <a:solidFill>
                  <a:srgbClr val="000000"/>
                </a:solidFill>
                <a:latin typeface="Calibri"/>
              </a:rPr>
              <a:t>3ra. Etapa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400" spc="-1" strike="noStrike">
                <a:solidFill>
                  <a:srgbClr val="000000"/>
                </a:solidFill>
                <a:latin typeface="Calibri"/>
              </a:rPr>
              <a:t>Fijación de lectura y calcul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04" name="Group 18"/>
          <p:cNvGrpSpPr/>
          <p:nvPr/>
        </p:nvGrpSpPr>
        <p:grpSpPr>
          <a:xfrm>
            <a:off x="7072200" y="857160"/>
            <a:ext cx="1357560" cy="1276560"/>
            <a:chOff x="7072200" y="857160"/>
            <a:chExt cx="1357560" cy="1276560"/>
          </a:xfrm>
        </p:grpSpPr>
        <p:sp>
          <p:nvSpPr>
            <p:cNvPr id="205" name="Oval 19"/>
            <p:cNvSpPr/>
            <p:nvPr/>
          </p:nvSpPr>
          <p:spPr>
            <a:xfrm>
              <a:off x="7072200" y="857160"/>
              <a:ext cx="1357560" cy="127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06" name="Oval 20"/>
            <p:cNvSpPr/>
            <p:nvPr/>
          </p:nvSpPr>
          <p:spPr>
            <a:xfrm>
              <a:off x="7089120" y="864000"/>
              <a:ext cx="1325160" cy="1244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07" name="Oval 21"/>
            <p:cNvSpPr/>
            <p:nvPr/>
          </p:nvSpPr>
          <p:spPr>
            <a:xfrm>
              <a:off x="7103520" y="876240"/>
              <a:ext cx="1260000" cy="11631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08" name="Oval 22"/>
            <p:cNvSpPr/>
            <p:nvPr/>
          </p:nvSpPr>
          <p:spPr>
            <a:xfrm>
              <a:off x="7177320" y="909000"/>
              <a:ext cx="1119960" cy="94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09" name="51 CuadroTexto"/>
          <p:cNvSpPr/>
          <p:nvPr/>
        </p:nvSpPr>
        <p:spPr>
          <a:xfrm>
            <a:off x="7215120" y="1143000"/>
            <a:ext cx="1428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400" spc="-1" strike="noStrike">
                <a:solidFill>
                  <a:srgbClr val="000000"/>
                </a:solidFill>
                <a:latin typeface="Calibri"/>
              </a:rPr>
              <a:t>4ta Etapa consolidación con PAEB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AutoShape 3"/>
          <p:cNvSpPr/>
          <p:nvPr/>
        </p:nvSpPr>
        <p:spPr>
          <a:xfrm>
            <a:off x="6929280" y="2928960"/>
            <a:ext cx="1928880" cy="2079720"/>
          </a:xfrm>
          <a:custGeom>
            <a:avLst/>
            <a:gdLst>
              <a:gd name="textAreaLeft" fmla="*/ 77400 w 1928880"/>
              <a:gd name="textAreaRight" fmla="*/ 1851480 w 1928880"/>
              <a:gd name="textAreaTop" fmla="*/ 77400 h 2079720"/>
              <a:gd name="textAreaBottom" fmla="*/ 2002320 h 2079720"/>
            </a:gdLst>
            <a:ahLst/>
            <a:rect l="textAreaLeft" t="textAreaTop" r="textAreaRight" b="textAreaBottom"/>
            <a:pathLst>
              <a:path w="21600" h="23289">
                <a:moveTo>
                  <a:pt x="2969" y="0"/>
                </a:moveTo>
                <a:arcTo wR="2969" hR="2969" stAng="16200000" swAng="-5400000"/>
                <a:lnTo>
                  <a:pt x="0" y="20320"/>
                </a:lnTo>
                <a:arcTo wR="2969" hR="2969" stAng="10800000" swAng="-5400000"/>
                <a:lnTo>
                  <a:pt x="18631" y="2328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AutoShape 7"/>
          <p:cNvSpPr/>
          <p:nvPr/>
        </p:nvSpPr>
        <p:spPr>
          <a:xfrm>
            <a:off x="6643800" y="142884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57 CuadroTexto"/>
          <p:cNvSpPr/>
          <p:nvPr/>
        </p:nvSpPr>
        <p:spPr>
          <a:xfrm>
            <a:off x="6858000" y="3286080"/>
            <a:ext cx="214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99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666699"/>
                </a:solidFill>
                <a:latin typeface="Verdana"/>
              </a:rPr>
              <a:t>Se fortalecen conocimientos para nivel I  con PAEB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s-ES_tradnl" sz="2200" spc="-1" strike="noStrike">
                <a:solidFill>
                  <a:srgbClr val="666699"/>
                </a:solidFill>
                <a:latin typeface="Times New Roman"/>
              </a:rPr>
              <a:t>ACCIONES DE MEJORA PROCESO DE FORMACION DEL PERSONAL DE ALFABETIZACION</a:t>
            </a:r>
            <a:endParaRPr b="0" lang="en-US" sz="2200" spc="-1" strike="noStrike">
              <a:solidFill>
                <a:srgbClr val="666699"/>
              </a:solidFill>
              <a:latin typeface="Times New Roman"/>
            </a:endParaRPr>
          </a:p>
        </p:txBody>
      </p:sp>
      <p:grpSp>
        <p:nvGrpSpPr>
          <p:cNvPr id="214" name="4 Rectángulo redondeado"/>
          <p:cNvGrpSpPr/>
          <p:nvPr/>
        </p:nvGrpSpPr>
        <p:grpSpPr>
          <a:xfrm>
            <a:off x="79200" y="2109960"/>
            <a:ext cx="2548080" cy="3187440"/>
            <a:chOff x="79200" y="2109960"/>
            <a:chExt cx="2548080" cy="3187440"/>
          </a:xfrm>
        </p:grpSpPr>
        <p:pic>
          <p:nvPicPr>
            <p:cNvPr id="215" name="4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9200" y="2109960"/>
              <a:ext cx="2548080" cy="31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262080" y="2262240"/>
              <a:ext cx="2190600" cy="28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82520" indent="-1825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Plan Social Educativo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182520" indent="-1825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Plan Nacional de Alfabetización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182520" indent="-1825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Marco Legal de la EPJA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182520" indent="-1825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Compromisos Internacionales  de la EPJA.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182520" indent="-1825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Sensibilización y Divulgación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182520" indent="-1825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Otros</a:t>
              </a:r>
              <a:endParaRPr b="0" lang="en-US" sz="16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217" name="6 Marcador de contenido"/>
          <p:cNvGrpSpPr/>
          <p:nvPr/>
        </p:nvGrpSpPr>
        <p:grpSpPr>
          <a:xfrm>
            <a:off x="2724120" y="1822320"/>
            <a:ext cx="2828880" cy="4048200"/>
            <a:chOff x="2724120" y="1822320"/>
            <a:chExt cx="2828880" cy="4048200"/>
          </a:xfrm>
        </p:grpSpPr>
        <p:pic>
          <p:nvPicPr>
            <p:cNvPr id="218" name="6 Marcador de contenido" descr=""/>
            <p:cNvPicPr/>
            <p:nvPr/>
          </p:nvPicPr>
          <p:blipFill>
            <a:blip r:embed="rId2"/>
            <a:stretch/>
          </p:blipFill>
          <p:spPr>
            <a:xfrm>
              <a:off x="2724120" y="1822320"/>
              <a:ext cx="2828880" cy="404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2917800" y="1989000"/>
              <a:ext cx="2451240" cy="36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275"/>
                </a:spcBef>
                <a:buClr>
                  <a:srgbClr val="ffcc00"/>
                </a:buClr>
                <a:buSzPct val="7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43080" indent="-343080">
                <a:lnSpc>
                  <a:spcPct val="80000"/>
                </a:lnSpc>
                <a:spcBef>
                  <a:spcPts val="275"/>
                </a:spcBef>
                <a:buClr>
                  <a:srgbClr val="ffcc00"/>
                </a:buClr>
                <a:buSzPct val="7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43080" indent="-343080">
                <a:lnSpc>
                  <a:spcPct val="80000"/>
                </a:lnSpc>
                <a:spcBef>
                  <a:spcPts val="275"/>
                </a:spcBef>
                <a:buClr>
                  <a:srgbClr val="ffcc00"/>
                </a:buClr>
                <a:buSzPct val="7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Análisis de los roles, responsabilidades y funciones a cumplir por: 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43080" indent="-343080">
                <a:lnSpc>
                  <a:spcPct val="80000"/>
                </a:lnSpc>
                <a:spcBef>
                  <a:spcPts val="275"/>
                </a:spcBef>
                <a:buClr>
                  <a:srgbClr val="ffcc00"/>
                </a:buClr>
                <a:buSzPct val="7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Técnico del Departamento     de Alfabetización.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43080" indent="-343080">
                <a:lnSpc>
                  <a:spcPct val="80000"/>
                </a:lnSpc>
                <a:spcBef>
                  <a:spcPts val="275"/>
                </a:spcBef>
                <a:buClr>
                  <a:srgbClr val="ffcc00"/>
                </a:buClr>
                <a:buSzPct val="7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Técnicos  de Asistencia Técnica Departamental.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43080" indent="-343080">
                <a:lnSpc>
                  <a:spcPct val="80000"/>
                </a:lnSpc>
                <a:spcBef>
                  <a:spcPts val="275"/>
                </a:spcBef>
                <a:buClr>
                  <a:srgbClr val="ffcc00"/>
                </a:buClr>
                <a:buSzPct val="7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Coordinador/a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43080" indent="-343080">
                <a:lnSpc>
                  <a:spcPct val="80000"/>
                </a:lnSpc>
                <a:spcBef>
                  <a:spcPts val="275"/>
                </a:spcBef>
                <a:buClr>
                  <a:srgbClr val="ffcc00"/>
                </a:buClr>
                <a:buSzPct val="7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romotor/a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43080" indent="-343080">
                <a:lnSpc>
                  <a:spcPct val="80000"/>
                </a:lnSpc>
                <a:spcBef>
                  <a:spcPts val="275"/>
                </a:spcBef>
                <a:buClr>
                  <a:srgbClr val="ffcc00"/>
                </a:buClr>
                <a:buSzPct val="7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Alfabetizador/a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43080" indent="-343080">
                <a:lnSpc>
                  <a:spcPct val="80000"/>
                </a:lnSpc>
                <a:spcBef>
                  <a:spcPts val="275"/>
                </a:spcBef>
                <a:buClr>
                  <a:srgbClr val="ffcc00"/>
                </a:buClr>
                <a:buSzPct val="7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Comisiones de alfabetización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43080" indent="-343080">
                <a:lnSpc>
                  <a:spcPct val="80000"/>
                </a:lnSpc>
                <a:spcBef>
                  <a:spcPts val="275"/>
                </a:spcBef>
                <a:buClr>
                  <a:srgbClr val="ffcc00"/>
                </a:buClr>
                <a:buSzPct val="7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Aprendizajes de las personas adultas.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43080" indent="-343080">
                <a:lnSpc>
                  <a:spcPct val="80000"/>
                </a:lnSpc>
                <a:spcBef>
                  <a:spcPts val="275"/>
                </a:spcBef>
                <a:buClr>
                  <a:srgbClr val="ffcc00"/>
                </a:buClr>
                <a:buSzPct val="7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Liderazgo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43080" indent="-343080">
                <a:lnSpc>
                  <a:spcPct val="80000"/>
                </a:lnSpc>
                <a:spcBef>
                  <a:spcPts val="275"/>
                </a:spcBef>
                <a:buClr>
                  <a:srgbClr val="ffcc00"/>
                </a:buClr>
                <a:buSzPct val="7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romoción Social (Aplicada al desarrollo comunitario)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43080" indent="-343080">
                <a:lnSpc>
                  <a:spcPct val="80000"/>
                </a:lnSpc>
                <a:spcBef>
                  <a:spcPts val="275"/>
                </a:spcBef>
                <a:buClr>
                  <a:srgbClr val="ffcc00"/>
                </a:buClr>
                <a:buSzPct val="7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El voluntariado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43080" indent="-343080">
                <a:lnSpc>
                  <a:spcPct val="80000"/>
                </a:lnSpc>
                <a:spcBef>
                  <a:spcPts val="275"/>
                </a:spcBef>
                <a:buClr>
                  <a:srgbClr val="ffcc00"/>
                </a:buClr>
                <a:buSzPct val="7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La evaluación 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43080" indent="-343080">
                <a:lnSpc>
                  <a:spcPct val="80000"/>
                </a:lnSpc>
                <a:spcBef>
                  <a:spcPts val="275"/>
                </a:spcBef>
                <a:buClr>
                  <a:srgbClr val="ffcc00"/>
                </a:buClr>
                <a:buSzPct val="7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Otros</a:t>
              </a: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  <a:p>
              <a:pPr marL="343080" indent="-343080">
                <a:lnSpc>
                  <a:spcPct val="80000"/>
                </a:lnSpc>
                <a:spcBef>
                  <a:spcPts val="275"/>
                </a:spcBef>
                <a:buClr>
                  <a:srgbClr val="ffcc00"/>
                </a:buClr>
                <a:buSzPct val="7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220" name="7 Rectángulo redondeado"/>
          <p:cNvGrpSpPr/>
          <p:nvPr/>
        </p:nvGrpSpPr>
        <p:grpSpPr>
          <a:xfrm>
            <a:off x="5724360" y="1573200"/>
            <a:ext cx="3260880" cy="4967280"/>
            <a:chOff x="5724360" y="1573200"/>
            <a:chExt cx="3260880" cy="4967280"/>
          </a:xfrm>
        </p:grpSpPr>
        <p:pic>
          <p:nvPicPr>
            <p:cNvPr id="221" name="7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5724360" y="1573200"/>
              <a:ext cx="3260880" cy="49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940360" y="1797120"/>
              <a:ext cx="2835360" cy="433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Orientaciones Metodológicas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lfabetización 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ntinuidad educativa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Materiales Educativos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lfabetización 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ntinuidad educativa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roceso Metodológico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lfabetización 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ntinuidad educativa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Modelaje de Sesión Educativa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lfabetización 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ntinuidad educativa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laneación de Sesión Educativa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racticas de Sesiones Educativas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lfabetización 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ntinuidad educativa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Jornalización del Proceso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lfabetización 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ntinuidad educativa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valuación de los Aprendizajes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Otros</a:t>
              </a: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23" name="10 Elipse"/>
          <p:cNvSpPr/>
          <p:nvPr/>
        </p:nvSpPr>
        <p:spPr>
          <a:xfrm>
            <a:off x="214200" y="1857240"/>
            <a:ext cx="2428920" cy="42876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INFORMATIV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12 Elipse"/>
          <p:cNvSpPr/>
          <p:nvPr/>
        </p:nvSpPr>
        <p:spPr>
          <a:xfrm>
            <a:off x="6215040" y="1571760"/>
            <a:ext cx="2286000" cy="42840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FORMATIV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13 Elipse"/>
          <p:cNvSpPr/>
          <p:nvPr/>
        </p:nvSpPr>
        <p:spPr>
          <a:xfrm>
            <a:off x="2928960" y="1714680"/>
            <a:ext cx="2428920" cy="42840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NDUCTIV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9 Flecha curvada hacia abajo"/>
          <p:cNvSpPr/>
          <p:nvPr/>
        </p:nvSpPr>
        <p:spPr>
          <a:xfrm>
            <a:off x="4643280" y="928800"/>
            <a:ext cx="1928880" cy="857160"/>
          </a:xfrm>
          <a:custGeom>
            <a:avLst/>
            <a:gdLst>
              <a:gd name="textAreaLeft" fmla="*/ 401760 w 1928880"/>
              <a:gd name="textAreaRight" fmla="*/ 1419840 w 1928880"/>
              <a:gd name="textAreaTop" fmla="*/ 114840 h 857160"/>
              <a:gd name="textAreaBottom" fmla="*/ 742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00" hR="21600" stAng="10800000" swAng="5400000"/>
                <a:lnTo>
                  <a:pt x="11400" y="0"/>
                </a:lnTo>
                <a:arcTo wR="9000" hR="21600" stAng="-5400000" swAng="3492867"/>
                <a:lnTo>
                  <a:pt x="21314" y="16200"/>
                </a:lnTo>
                <a:lnTo>
                  <a:pt x="19200" y="21600"/>
                </a:lnTo>
                <a:lnTo>
                  <a:pt x="16514" y="16200"/>
                </a:lnTo>
                <a:lnTo>
                  <a:pt x="17714" y="16200"/>
                </a:lnTo>
                <a:arcTo wR="9000" hR="21600" stAng="-1907133" swAng="-3300361"/>
                <a:lnTo>
                  <a:pt x="10200" y="193"/>
                </a:lnTo>
                <a:arcTo wR="9000" hR="21600" stAng="-5592505" swAng="-5207495"/>
                <a:close/>
              </a:path>
              <a:path fill="darkenLess" w="21600" h="21600">
                <a:moveTo>
                  <a:pt x="0" y="21600"/>
                </a:moveTo>
                <a:arcTo wR="9000" hR="21600" stAng="10800000" swAng="5400000"/>
                <a:lnTo>
                  <a:pt x="9000" y="0"/>
                </a:lnTo>
                <a:arcTo wR="9000" hR="21600" stAng="-5400000" swAng="192505"/>
                <a:lnTo>
                  <a:pt x="10200" y="193"/>
                </a:lnTo>
                <a:arcTo wR="9000" hR="21600" stAng="-5592505" swAng="-5207495"/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8 Flecha curvada hacia abajo"/>
          <p:cNvSpPr/>
          <p:nvPr/>
        </p:nvSpPr>
        <p:spPr>
          <a:xfrm>
            <a:off x="1428840" y="928800"/>
            <a:ext cx="1928880" cy="928440"/>
          </a:xfrm>
          <a:custGeom>
            <a:avLst/>
            <a:gdLst>
              <a:gd name="textAreaLeft" fmla="*/ 394920 w 1928880"/>
              <a:gd name="textAreaRight" fmla="*/ 1417680 w 1928880"/>
              <a:gd name="textAreaTop" fmla="*/ 124200 h 928440"/>
              <a:gd name="textAreaBottom" fmla="*/ 804240 h 92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50" hR="21600" stAng="10800000" swAng="5400000"/>
                <a:lnTo>
                  <a:pt x="11450" y="0"/>
                </a:lnTo>
                <a:arcTo wR="8850" hR="21600" stAng="-5400000" swAng="3466901"/>
                <a:lnTo>
                  <a:pt x="21319" y="16200"/>
                </a:lnTo>
                <a:lnTo>
                  <a:pt x="19000" y="21600"/>
                </a:lnTo>
                <a:lnTo>
                  <a:pt x="16119" y="16200"/>
                </a:lnTo>
                <a:lnTo>
                  <a:pt x="17419" y="16200"/>
                </a:lnTo>
                <a:arcTo wR="8850" hR="21600" stAng="-1933099" swAng="-3257988"/>
                <a:lnTo>
                  <a:pt x="10150" y="234"/>
                </a:lnTo>
                <a:arcTo wR="8850" hR="21600" stAng="-5608913" swAng="-5191087"/>
                <a:close/>
              </a:path>
              <a:path fill="darkenLess" w="21600" h="21600">
                <a:moveTo>
                  <a:pt x="0" y="21600"/>
                </a:moveTo>
                <a:arcTo wR="8850" hR="21600" stAng="10800000" swAng="5400000"/>
                <a:lnTo>
                  <a:pt x="8850" y="0"/>
                </a:lnTo>
                <a:arcTo wR="8850" hR="21600" stAng="-5400000" swAng="208913"/>
                <a:lnTo>
                  <a:pt x="10150" y="234"/>
                </a:lnTo>
                <a:arcTo wR="8850" hR="21600" stAng="-5608913" swAng="-5191087"/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15:38:38Z</dcterms:created>
  <dc:creator>CBerdugo</dc:creator>
  <dc:description/>
  <dc:language>en-US</dc:language>
  <cp:lastModifiedBy>RValencia</cp:lastModifiedBy>
  <dcterms:modified xsi:type="dcterms:W3CDTF">2011-05-26T16:02:06Z</dcterms:modified>
  <cp:revision>475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807783082</vt:lpwstr>
  </property>
</Properties>
</file>